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1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08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14.wmf" ContentType="image/x-wmf"/>
  <Override PartName="/ppt/media/image2.wmf" ContentType="image/x-wmf"/>
  <Override PartName="/ppt/media/image75.png" ContentType="image/png"/>
  <Override PartName="/ppt/media/image3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67.wmf" ContentType="image/x-wmf"/>
  <Override PartName="/ppt/media/image65.wmf" ContentType="image/x-wmf"/>
  <Override PartName="/ppt/media/image81.png" ContentType="image/png"/>
  <Override PartName="/ppt/media/image64.wmf" ContentType="image/x-wmf"/>
  <Override PartName="/ppt/media/image80.png" ContentType="image/png"/>
  <Override PartName="/ppt/media/image63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27.wmf" ContentType="image/x-wmf"/>
  <Override PartName="/ppt/media/image66.jpeg" ContentType="image/jpeg"/>
  <Override PartName="/ppt/media/image16.wmf" ContentType="image/x-wmf"/>
  <Override PartName="/ppt/media/image4.wmf" ContentType="image/x-wmf"/>
  <Override PartName="/ppt/media/image34.wmf" ContentType="image/x-wmf"/>
  <Override PartName="/ppt/media/image77.png" ContentType="image/png"/>
  <Override PartName="/ppt/media/image17.wmf" ContentType="image/x-wmf"/>
  <Override PartName="/ppt/media/image5.wmf" ContentType="image/x-wmf"/>
  <Override PartName="/ppt/media/image35.wmf" ContentType="image/x-wmf"/>
  <Override PartName="/ppt/media/image78.png" ContentType="image/png"/>
  <Override PartName="/ppt/media/image10.wmf" ContentType="image/x-wmf"/>
  <Override PartName="/ppt/media/image47.wmf" ContentType="image/x-wmf"/>
  <Override PartName="/ppt/media/image36.wmf" ContentType="image/x-wmf"/>
  <Override PartName="/ppt/media/image79.png" ContentType="image/png"/>
  <Override PartName="/ppt/media/image11.wmf" ContentType="image/x-wmf"/>
  <Override PartName="/ppt/media/image48.wmf" ContentType="image/x-wmf"/>
  <Override PartName="/ppt/media/image12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604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4320" y="693360"/>
            <a:ext cx="4635720" cy="34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0596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6040" y="880596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025A11-B36B-4B4E-8E26-7FF42200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ategory A: common data, common an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ategory B: Common dev data, + other an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ategory C: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clusion: Type A runs perform well for most features, except 18 (female speech) , 21 (news subject monologue), 25 (zoom) (Were these annotated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clusion 2: There are several easy features, an some harder featu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asy feature: Weather (24) Sport (2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dium: female speech, vegation(16) , aircraft(20) , PersonX (2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hich systems capture different results than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finition Female speech: we hear a female voice, see a talking 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eline SVM system for all features, compute HSV, texture, edge directions on a grid of each frame + audio features, train on common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emale speech: LIMSI gender, face , S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r: modified fac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Zoom: MPEG motion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eather, Sports: Timing and A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ews subject monologue: overlaid text, length, anchor, commercial, motion ,… : Stacking/ Boo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ather work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n-studio has low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riking: Good AV results, AV+ASR improve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riking: ASR is not enough!! (mostly around F=0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V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clusion: task is too easy. Only gain possible is probably to learn the intricacies of the LDC definition of news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oor segmentation run, which appears to be a good classification run. Thus story length is a strong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7468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2100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sites did all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other sites did most of the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sites did just a few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BAD-11F1-4141-8A33-7AF11F72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8360" y="3833640"/>
            <a:ext cx="8001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188-EEBA-46D8-83F0-D57D79F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836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804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1DD-AD7C-48EA-B507-A3F26597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3760" y="136836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9160" y="136836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8360" y="383364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3760" y="383364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9160" y="383364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991-44CE-4F74-95A7-EA30298C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B46-DD49-4F40-AB1F-819BDA2F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9EA-D52B-478C-8E9A-1F9E763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4CED-FBFB-4960-8137-D6CA7A0C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D4F3-91EB-4A66-8009-62E74C3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A772-C664-47F9-BC15-E41EA7E6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49000" y="263160"/>
            <a:ext cx="80010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6DAD-7274-4318-BEB6-870BB50A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836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F2A5-44D8-4C75-B9F5-8E3A278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20A-B6F6-4E46-A5BB-CE7B99D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804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922-F971-40DD-8FAC-7C1E553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360" y="3833640"/>
            <a:ext cx="8001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3602-8CF6-45DF-B260-232D86F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8360" y="3833640"/>
            <a:ext cx="8001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FFB-B153-4A58-A8A5-A50EB32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836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804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2DF-C0C3-4B4F-959D-25EE81C3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760" y="136836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9160" y="136836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8360" y="383364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760" y="383364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9160" y="3833640"/>
            <a:ext cx="25761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0C7-9A5C-4869-A262-9441E4DA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3B3-D48F-4000-B418-A6DC3973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E71-815E-4403-B50F-3EE5F9BD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ECD-40A6-4BCE-8654-AF9BA2BE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49000" y="263160"/>
            <a:ext cx="80010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3CD-EC0C-4F76-8465-55AE8335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836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0C5-2B7C-48BE-9186-63408C8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8040" y="383364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409-BDA2-4C3C-BC4A-06077FA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040" y="1368360"/>
            <a:ext cx="3904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8360" y="3833640"/>
            <a:ext cx="80010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1A1-3B39-4765-93F6-9E7A6EC0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61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8073-1F96-44CD-94F4-EB4EF60CEA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999E-0384-4F7C-8974-B7586E92E8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9720" algn="ctr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560" y="242640"/>
            <a:ext cx="825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C 2003 Video Retrieval Evalu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99840" y="2523960"/>
            <a:ext cx="81961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s:  Alan Smeato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for Digital Video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blin City Univers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ssel Kraa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Multimedia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NO 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T:  Paul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ieval Group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ccess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Technology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t Boundary Detection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ually created ground truth of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,734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ransitions (thanks </a:t>
            </a:r>
            <a:r>
              <a:rPr b="0" lang="en-IE" sz="2200" spc="-1" strike="noStrike" u="sng">
                <a:solidFill>
                  <a:srgbClr val="000000"/>
                </a:solidFill>
                <a:uFillTx/>
                <a:latin typeface="Arial"/>
              </a:rPr>
              <a:t>agai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natha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ask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with 70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% hard cuts, 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% dissolves,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.1% fades and 5.9% other … very similar ratios to 200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p to 10 submissions per group, measured using precision and recall, with a bit of flexibility for matching gradual transiti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ost participating groups use their 10 submissions to “tweak” some paramet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EB6-F902-4FBD-A60B-8063C8FB4D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vgP by feature (top 10 runs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7080" y="1123920"/>
          <a:ext cx="8053560" cy="504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1123920"/>
                    <a:ext cx="805356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219960" y="50562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edian 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E20-1D89-401B-8B6A-5AF432E47B3F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vgP by feature (top 5 runs by per feature)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533520" y="1523880"/>
          <a:ext cx="8470800" cy="484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3880"/>
                    <a:ext cx="847080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406520" y="3608280"/>
            <a:ext cx="5219640" cy="21034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05080" y="1728720"/>
            <a:ext cx="5219640" cy="187164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59080" y="3193920"/>
            <a:ext cx="7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emale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24360" y="25495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84480" y="2830680"/>
            <a:ext cx="96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ws subject monolo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894-6999-4795-B623-823FD4BC4E7F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vgP by feature (top 5 runs by per feature)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oomed: Hard feature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33520" y="1523880"/>
          <a:ext cx="8470800" cy="484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3880"/>
                    <a:ext cx="847080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1539720" y="1730520"/>
            <a:ext cx="5086440" cy="398124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184800" y="22924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32320" y="20764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067200" y="1795320"/>
            <a:ext cx="16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emale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724120" y="24433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52960" y="4608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43560" y="423072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n-st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18000" y="296064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ar/tru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24080" y="35971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32240" y="380052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87720" y="473724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898640" y="3189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471680" y="4319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ws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90520" y="34290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do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C12-5972-4916-A711-E6DE3BF343D0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vgP by feature (top 5 runs per feature)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oomed: Easy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533520" y="1523880"/>
          <a:ext cx="8470800" cy="484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3880"/>
                    <a:ext cx="847080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1539720" y="1724040"/>
            <a:ext cx="5086440" cy="398772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92520" y="20667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81520" y="4746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00640" y="34653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144880" y="4502160"/>
            <a:ext cx="24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ws subject mono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DAF-DD88-46C2-8497-6AFCBF218688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33440" y="1247760"/>
          <a:ext cx="8531280" cy="478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3440" y="1247760"/>
                    <a:ext cx="853128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vg.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s  total number true for each fea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775480" y="6546960"/>
          <a:ext cx="466560" cy="25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5480" y="6546960"/>
                    <a:ext cx="466560" cy="25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7254720" y="2122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2040" y="18111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85960" y="18399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0280" y="4167360"/>
            <a:ext cx="96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n-st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8FF-768C-4FC1-9E7E-783EC42EFFA8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390600" y="1243080"/>
          <a:ext cx="8211960" cy="43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600" y="1243080"/>
                    <a:ext cx="82119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PlaceHolder 2"/>
          <p:cNvSpPr>
            <a:spLocks noGrp="1"/>
          </p:cNvSpPr>
          <p:nvPr>
            <p:ph type="title"/>
          </p:nvPr>
        </p:nvSpPr>
        <p:spPr>
          <a:xfrm>
            <a:off x="482400" y="380880"/>
            <a:ext cx="812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3 of 60 runs contributed one or more unique, true sh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064-2488-44D1-BEC0-3F271D3B2AD1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468440" y="1170000"/>
          <a:ext cx="8064360" cy="488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8440" y="1170000"/>
                    <a:ext cx="806436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482400" y="380880"/>
            <a:ext cx="812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ue shots contributed uniquely by run for a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59D-B6F5-45C1-8073-88BD70281578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1409760" y="1125360"/>
          <a:ext cx="8085240" cy="515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9760" y="1125360"/>
                    <a:ext cx="808524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PlaceHolder 2"/>
          <p:cNvSpPr>
            <a:spLocks noGrp="1"/>
          </p:cNvSpPr>
          <p:nvPr>
            <p:ph type="title"/>
          </p:nvPr>
        </p:nvSpPr>
        <p:spPr>
          <a:xfrm>
            <a:off x="482400" y="380880"/>
            <a:ext cx="812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ue shots contributed uniquely for a feature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a participat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6B4-2EC3-4091-9C6D-4D58E8B06020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398600" y="1135080"/>
            <a:ext cx="6705720" cy="4589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Accenture Technology Laboratorie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kin tone detection, count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200&lt;length&lt;1000 + color distribution + position of overlay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emale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udio based gender detection + face + moving 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533-3019-469D-8919-753652D25F86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355760" y="1177920"/>
            <a:ext cx="6705720" cy="16329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Carnegie Mellon University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ll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esentation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5FC-1370-4663-8197-82D9F568094B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3520" y="109224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Accenture Technology Laboratories (US)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  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  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  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KDDI (JP)                     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niv. of Central Florida  (US)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niv. of Iowa (US)            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niv. of Kansas (US)                          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 Groups in Shot Boundary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497-A5CA-4C4F-9FA8-3298C7AE73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398600" y="1135080"/>
            <a:ext cx="6705720" cy="3476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CLIPS-IMAG</a:t>
            </a:r>
            <a:r>
              <a:rPr b="0" lang="en-IE" sz="28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1 feature: M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ow would a blind person locate a shot containing Madeline Alb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peaker detection (acoustic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.A. is probably mentioned in one of the preceding 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4BE-8EC2-438B-8BC9-8E4DC5863422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09760" y="1135080"/>
            <a:ext cx="6705720" cy="4300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CWI Amsterdam / University of Twente</a:t>
            </a:r>
            <a:r>
              <a:rPr b="0" lang="en-IE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14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orking hypothesis: Feature extraction == query b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enerative probabilistic retrieval model (same as used for search task), divide frame in pixel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ake a sample of the annotated frames, rank the keyframes based on the likelihood that they generate the query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95F-414A-4993-ACDB-B0CF8BF7B32C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398600" y="1135080"/>
            <a:ext cx="6705720" cy="5701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Fudan University</a:t>
            </a:r>
            <a:r>
              <a:rPr b="0" lang="en-IE" sz="2800" spc="-1" strike="noStrike">
                <a:solidFill>
                  <a:srgbClr val="ff3300"/>
                </a:solidFill>
                <a:latin typeface="Times New Roman"/>
              </a:rPr>
              <a:t>: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ll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cene features: grid, color histogram, edge direction, texture, KNN, AdaB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egetation, Weather: texture+color, SVM, GMM, Max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r: Schneider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nimal: vegetation with K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ircraft: detect context of 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udio: female speech : 12-MFCC, Pitch, 10-L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D77-2D3F-4576-AB70-634EAFEF7D6D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98600" y="1135080"/>
            <a:ext cx="6705720" cy="3918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3300"/>
                </a:solidFill>
                <a:latin typeface="Times New Roman"/>
              </a:rPr>
              <a:t>IBM Research</a:t>
            </a:r>
            <a:r>
              <a:rPr b="0" lang="en-IE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ll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esentation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C61-3CFC-4983-9F60-3F4620998B48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387440" y="1135080"/>
            <a:ext cx="6705720" cy="422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Imperial College London</a:t>
            </a:r>
            <a:r>
              <a:rPr b="0" lang="en-IE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eature 16: Veg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ed on grass detector using a colour feature and K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FC8-92B1-4A16-9950-0F2C348CAFA3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398600" y="1123920"/>
            <a:ext cx="6705720" cy="3857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Institut Eurecom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: Apply L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15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yframes are segmented into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gions are clustered using K-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luster X frame matrix is reduced by L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se new feature space for GMM and KNN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FF2-9266-4098-8E59-8B5AED918B0A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398600" y="1135080"/>
            <a:ext cx="6705720" cy="49701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University of Central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2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eather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lor histogram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on-studio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aken as: all non anchor 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411-F543-44CA-BDF0-93038EAB423D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103400" y="10159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398600" y="1135080"/>
            <a:ext cx="6705720" cy="477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University of Oulu / VT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xtracted 15 features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emporal color corr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dge grad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veral low level audio features (used for outdoors, vehicle noise, sport, mono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eature fusion based on Borda count v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170-3A7E-41C5-931C-B1BCBD313773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ome feature detectors had quite goo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re features well chosen for search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tection quality good enoug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hich combination methods work well? Which don’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25C-8BBC-48C7-898C-05DBF9B3C4B8}" type="slidenum">
              <a:t>1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181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ECVID2003: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earch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5644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earch, summarisation, linking, etc. are the ultimate operations on digital video and SBD, features, segmentation, are all enablers for th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RECVID search is an extension of its text-only analogue where systems, including a human in the loop, are presented with a topic and are to return up to 1,000 shots which meet the ne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Note the unit of retrieval is the </a:t>
            </a:r>
            <a:r>
              <a:rPr b="0" i="1" lang="en-IE" sz="2600" spc="-1" strike="noStrike">
                <a:solidFill>
                  <a:srgbClr val="000000"/>
                </a:solidFill>
                <a:latin typeface="Arial"/>
              </a:rPr>
              <a:t>shot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, not the news stor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wo search modes … manual and interactive, and we’re not yet able for full automatic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BDC-C1A3-47DC-B571-686B5BCDA18E}" type="slidenum">
              <a:t>1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What do the results look lik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CCF-FFAB-47FE-A439-D21ECB059E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arch Types: Interactive and Man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2"/>
          <a:stretch/>
        </p:blipFill>
        <p:spPr>
          <a:xfrm>
            <a:off x="636480" y="1874880"/>
            <a:ext cx="7309080" cy="354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BF7-A779-489F-A5EE-C4988B68FB34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arch Types: Interactive and Man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opics are MM and the interactions between text, image, video, audio, are complex and understanding how exemplars represent information need, is not really understoo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his task </a:t>
            </a:r>
            <a:r>
              <a:rPr b="1" lang="en-IE" sz="26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benefitted from the ASR donated by Jean-Luc Gauvain of LIMSI which is (anecdotally) very accurat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One baseline run based on ASR-only was required of every manual syste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9DB-706B-41F2-B58C-4617BBDB369A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We can’t achieve the ideal of topics from real users searching our datase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NIST created topics based on a number of basic search types: generic/specific and person/thing/event where there are multiple relevant shots coming from more than one vide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Videos were viewed by NIST personnel (sound off), notes taken on content, and candidates emerged and were chose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B23-5DCA-43EC-805B-E08F743CD0FD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 Topic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total relevant found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with aerial views containing both one or more buildings and one or more roads  [8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 basket being made - the basketball passes down through the hoop and net  [1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from behind the pitcher in a baseball game as he throws a ball that the batter swings at  [18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Yasser Arafat  [3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n airplane taking off  [4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 helicopter in flight or on the ground [52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the Tomb of the Unknown Soldier at Arlington National Cemetery  [3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 rocket or missile taking off. Simulations are acceptable  [62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65000"/>
              <a:buFont typeface="Arial"/>
              <a:buAutoNum type="arabicPeriod" startAt="1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the Mercedes logo (star)  [34]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B62-F0A7-42F0-A1B9-3FEF975B289C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one or more tanks  [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 person diving into some water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with a locomotive (and attached railroad cars if any) approaching the viewer  [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showing flames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22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more shots with one or more snow-covered mountain peaks or ridges. Some sky must be visible behind them.  [62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Osama Bin Laden  [2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one or more roads with lots of vehicles [106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the Sphinx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one or more groups of people, a crowd, walking in an urban environment (for example with streets, traffic, and/or buildings)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66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C63-A35B-423E-A22F-2C00DE393218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Congressman Mark Souder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Morgan Freeman  [1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 graphic of Dow Jones Industrial Average showing a rise for one day. The number of points risen that day must be visible. (Manual only) [4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a mug or cup of coffee.  [9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one or more cats.  At least part of both ears, both eyes, and the mouth must be visible.  The body can be in any position. [12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Pope John Paul II  [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hots of the front of the White House in the daytime with the fountain running  [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52C-5801-4B2E-AE15-C07C031F4092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Groups allowed to submit up to 10 runs and 37 interactive and 38 manual runs were submitted from 11 group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ll submissions were pooled and judged by NIST assessors to variable depths depending on “hit rate” of finding relevant sho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Evaluation was trec_ev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1AE-B723-4A7B-B664-994796CC861E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bsolute performance figures must be taken in their context, so don’t believe the numbers … read the papers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We tried to level the field by standardising on time spent (15 min.) and thought of introducing a reference system at each site, but TRECVID not yet mature enough for tha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lso, submitted runs do not necessarily correspond to 1 user, but can be aggregates of multiple users, 2+ groups did th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B86-0CCF-4B48-8534-F7BBBCAFC1A0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Carnegie Mellon Univ.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X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CWI Amsterdam / Univ. of Twente (N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                      X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X      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      X     X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      X     X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X            X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National Univ. Singapore (Sing.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X      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Univ. Oulu/VTT (FI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X      </a:t>
            </a:r>
            <a:r>
              <a:rPr b="1" lang="en-US" sz="12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9DC-E172-452D-8397-FE1BC19137AC}" type="slidenum">
              <a:t>1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385920" y="1522440"/>
          <a:ext cx="8223120" cy="493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1522440"/>
                    <a:ext cx="82231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482400" y="380880"/>
            <a:ext cx="8661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0 of 75 runs contributed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unique, rel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v.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ED0-1DB3-4FA4-82AF-F461EAB68365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Evaluation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cision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call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rame Precision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rame Recall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1160" y="1239840"/>
            <a:ext cx="384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Transition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Correctly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Transition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1160" y="2478240"/>
            <a:ext cx="384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Transition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Correctly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Transition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in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7200" y="3736800"/>
            <a:ext cx="61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Frame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Correctly Reported in Detected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Frame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reported in Detected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8960" y="5106960"/>
            <a:ext cx="61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Frame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Correctly Reported in Detected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IE" sz="2000" spc="-1" strike="noStrike">
                <a:solidFill>
                  <a:srgbClr val="336699"/>
                </a:solidFill>
                <a:latin typeface="Arial"/>
              </a:rPr>
              <a:t>Frames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in Reference Data for Detected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3960" y="1584360"/>
            <a:ext cx="4470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844720"/>
            <a:ext cx="4470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3240" y="4094280"/>
            <a:ext cx="6170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5470560"/>
            <a:ext cx="6170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72A-A076-4127-8351-89CB9DB478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4" name=""/>
          <p:cNvGraphicFramePr/>
          <p:nvPr/>
        </p:nvGraphicFramePr>
        <p:xfrm>
          <a:off x="1409760" y="1125360"/>
          <a:ext cx="8085240" cy="515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9760" y="1125360"/>
                    <a:ext cx="808524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482400" y="380880"/>
            <a:ext cx="8127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evant shots contributed uniquely for a topic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a participat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6BC-4A0B-4A25-8A1A-33A2B9DD1B05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al runs - top 10 (of 38)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ith mean human effort / topic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896760" y="1195560"/>
          <a:ext cx="7820280" cy="485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6760" y="1195560"/>
                    <a:ext cx="782028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FAE-057E-479D-BB19-BF55CE9E2DEF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 runs - top 10 (of 36)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ith mean elapsed tim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892080" y="1163520"/>
          <a:ext cx="8091720" cy="568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2080" y="1163520"/>
                    <a:ext cx="809172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17E-4431-4CEE-A0D7-36B219DB863B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3" name=""/>
          <p:cNvGraphicFramePr/>
          <p:nvPr/>
        </p:nvGraphicFramePr>
        <p:xfrm>
          <a:off x="293760" y="1341360"/>
          <a:ext cx="85294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1341360"/>
                    <a:ext cx="85294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vgerage precision by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1820880" y="3944880"/>
          <a:ext cx="3935520" cy="200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0880" y="3944880"/>
                    <a:ext cx="39355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8" name=""/>
          <p:cNvGrpSpPr/>
          <p:nvPr/>
        </p:nvGrpSpPr>
        <p:grpSpPr>
          <a:xfrm>
            <a:off x="1880280" y="-4320"/>
            <a:ext cx="5124240" cy="3542760"/>
            <a:chOff x="1880280" y="-4320"/>
            <a:chExt cx="5124240" cy="3542760"/>
          </a:xfrm>
        </p:grpSpPr>
        <p:sp>
          <p:nvSpPr>
            <p:cNvPr id="1049" name=""/>
            <p:cNvSpPr/>
            <p:nvPr/>
          </p:nvSpPr>
          <p:spPr>
            <a:xfrm rot="18900000">
              <a:off x="1751400" y="1520280"/>
              <a:ext cx="18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Yasser Araf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8900000">
              <a:off x="2197800" y="1090080"/>
              <a:ext cx="32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Unknown Soldier Tom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8900000">
              <a:off x="2637360" y="2331360"/>
              <a:ext cx="245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Osama bin La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8900000">
              <a:off x="4299480" y="808920"/>
              <a:ext cx="18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Sphin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8900000">
              <a:off x="5291640" y="1028160"/>
              <a:ext cx="18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Mark Sou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746-C1D4-402B-9FEF-EBC209896E4F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4" name=""/>
          <p:cNvGraphicFramePr/>
          <p:nvPr/>
        </p:nvGraphicFramePr>
        <p:xfrm>
          <a:off x="700200" y="1092240"/>
          <a:ext cx="7508880" cy="51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092240"/>
                    <a:ext cx="750888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verage precision (interactive max)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s  number relevant 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hot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5775480" y="6546960"/>
          <a:ext cx="466560" cy="25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5480" y="6546960"/>
                    <a:ext cx="466560" cy="25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1A8-32BB-4639-9A08-52C2047C8A76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89000" y="1346040"/>
            <a:ext cx="7319880" cy="505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1. Carnegie Mellon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: same system as TV2002 – split topics among 5 individuals, text search across ASR, CC, OCR with storyboarding of keyframes, layout under user control, filtering based on features; another run used improved version with more effective visualisation and brows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ual: multiple retrieval agents across colour, texture, ASR, OCR and some features, combined in different ways, incl. Negative pseudo-RF and “co-retrieval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resentation to follow - great results (again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59A-EB3B-423E-8B09-C922A8F08F96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089000" y="1346040"/>
            <a:ext cx="7551720" cy="4894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2. Lowlands (CWI &amp; U. Tw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rging information from multiple moda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eparate Qs for each topic exampl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mbine different models of Q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mbine sims from system / user judg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uild a language model for each sh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computing NNs for each keyframe in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better than manual and combination of text/visual better than text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8EE-4083-45CF-A892-B33C80A5FDEF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089000" y="1346040"/>
            <a:ext cx="7307280" cy="5069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3. Dublin City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 of Físchlár in interactive setting with 16 users, 7 mins each, doing 12 topic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system variations were ASR search only and ASR plus query image vs. shot keyfr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had shot-level browsing, user controlled ASR/image search balance, RF allowed by expanding text and/or im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m was to see if users used and benefited from text &amp; im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45F-AB7C-4618-ADE7-8B46A1025115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960480" y="1346040"/>
            <a:ext cx="7203960" cy="467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4. Fudan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ual search using 4 different approaches and then combina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S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lour hist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multiple feature (colour hist, edge, coocurrence textur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“special search” where user selects most appropriate for topic, from 1. human face recog, 2. general shot features, 3. multiple features, 4. motion (camera and object), 5. colour/texture, 6. colour reg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B12-8AF6-4E16-975E-F0DA17013BD6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89000" y="1346040"/>
            <a:ext cx="7139160" cy="4879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5. IBM Re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d Spoken Document Retrieval and content based techniques in manual r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R used automatic and phonetic techniques and SDR fusion across multiple match functions, re-ranking shots based on color blob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did fully automatic multiple example content-based (which is beyond “manual”) and fusion of content-based and SDR-based via linear weight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FF9-660C-4FFE-B985-CE7A770D3E7C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903840" y="1603440"/>
            <a:ext cx="2060280" cy="167004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F50-F004-49DC-8CF6-0C343CF0DD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89000" y="1346040"/>
            <a:ext cx="7139160" cy="5610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6. Imperial College Lond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ASR &amp; 11 low-level colour/texture, disregarding image footer likely to contain news tick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 include global colour, colour from frame centre, colour structure descriptors, RGB colour moments,44x27 pixel gray thumbnails, convolution filters, variance, image smoothness and uniformity, AS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rieval of kNNs, thumbnails on 2D display, RF by user movement of thumbnails, demo ? 2x manual, 4x interactive runs, result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59D-D813-4951-8FAE-D68341AFF7A9}" type="slidenum">
              <a:t>1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089000" y="1346040"/>
            <a:ext cx="7139160" cy="3591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7. Indiana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ASR and built a system around interactive text search and query expansion plus video shot brows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search with 1 subject doing all topics, 15 mins max but used only 10 mi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ture work is to include search based on visual featu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6CB-BB2D-43F3-A595-52D0699D1A2C}" type="slidenum">
              <a:t>1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2"/>
          <a:stretch/>
        </p:blipFill>
        <p:spPr>
          <a:xfrm>
            <a:off x="-185760" y="-500040"/>
            <a:ext cx="9286920" cy="729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B0D-2763-4353-A4A0-3F7835A5593D}" type="slidenum">
              <a:t>1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89000" y="1346040"/>
            <a:ext cx="7139160" cy="4981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8. MediaMill/University of Amsterd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active search with 22 groups of 2 users (in pairs?), using a combination of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MU donated featu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derived “concepts” from LSI over AS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keywords from AS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yield an active set of 2,000 shots then a snazzy shot browser to select examp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1 of 11 complete runs submi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1 system so no local variant to compare against, and selectively combined sets of users’ outputs per topic to generate submiss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” (per topic) objectively selected by submitting the result where the most shots were selected by th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19A-35A7-4599-BD17-497D14315BBD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-276120" y="-376200"/>
            <a:ext cx="9847080" cy="70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4E0-E034-44C8-986B-C569692F17E2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089000" y="1303200"/>
            <a:ext cx="7805880" cy="5625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9. National University of Singap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New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trieval based on ASR and using WordNet and web to expand the original query, POS tagging of que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Filter shots from story based on shot featu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Use image &amp; video matching to re-rank remaining sho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interactive runs user views top 100 shots and marks relevant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s show marked impact of manual vs. interactive, I.e. user R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38C-E39A-4E69-8883-8A8DDB5218A5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089000" y="1346040"/>
            <a:ext cx="7139160" cy="5435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10. University of North Carolina 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ASR-only, features-only, ASR+features, in interactive search tas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: aggregated results of 10 groups from 17 features used in extraction tas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R was LIMSI, combination was 2xAS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searchers, each doing 12 topics over systems in 15 mins per top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t browser had annotated storyboard of keyframe + ASR, lots of pre- and post-questionnair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71A-87C3-4BC6-94FE-BDBF5B9614D1}" type="slidenum">
              <a:t>1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9382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F2E-6E36-4934-BC9B-738B878AE9B6}" type="slidenum">
              <a:t>1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8334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2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D32-D8C8-42C4-85B0-8EECCC4A7EF6}" type="slidenum">
              <a:t>1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18334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CA9-8413-4336-880B-FC36058467A6}" type="slidenum">
              <a:t>1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 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81C-D24B-43D0-813C-642602509F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18334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2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786-98AA-41D3-AC40-AB1E5DCFF14E}" type="slidenum">
              <a:t>1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9382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4EB-3278-4534-B162-A7A39338C8FA}" type="slidenum">
              <a:t>1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89000" y="1346040"/>
            <a:ext cx="7139160" cy="4879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10. University of North Carolina (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s … no statistical difference in Precision, but statistical difference in recall where features-only was less than the other two … poor feature recognition accurac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variability in time taken per search, avg 4 to 6 minu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h evaluation of user’s perception and satisf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helpful pointers on future assessment of interactive sear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897-C8BD-4682-88D8-AA296D877DAD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089000" y="1346040"/>
            <a:ext cx="7139160" cy="505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11. University of Oulu/V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E has interactive cluster/temporal shot browsing and shot similarity based on visual (colour, edge structure, motion), conceptual (15x features from feature set) and lexical (from ASR) similar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ual runs .. Pre-select combinations of features and images from top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runs … 8 people, 2 systems, 9.5 mins per topic, (a) browse by visual features only and (b) browse by visual features plus ASR … result indicates no significant differe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029-6372-40C3-86D6-BC1FDC134EED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-304920" y="401760"/>
            <a:ext cx="9796680" cy="59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744-5A9C-49E8-ABF4-52711D8ADD5B}" type="slidenum">
              <a:t>1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Lots of variation, interesting shot browsing interfaces, mixture of interactive &amp; manu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pproximately as much use of donated features as TV2002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 lot more participation, more runs, better at the upper end … quite respectable curves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Nearly a dozen groups can now complete the search task and the demos are impressiv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62A-AE2E-46BC-9BCF-4896659AC5C5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669960" y="1295280"/>
            <a:ext cx="83088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notebook papers, presentations, and feedback on plans for TRECVID 2004 available on the website in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final papers available on the website by mid-March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: probably complete 2-y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80 hours of new test data from same news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2003 tasks with som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rmation as it develop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-nlpir.nist.gov/projects/trec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title"/>
          </p:nvPr>
        </p:nvSpPr>
        <p:spPr>
          <a:xfrm>
            <a:off x="660240" y="26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10F-C078-40A0-95EE-CA9D6C8945EB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nd for Gradual Transitions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F6B-0A5A-4E23-83B2-0535258E82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gradual t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D52-3A98-4B7A-B0DC-26BFCDF03F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F42-9ACD-42B3-A145-CEF66176A4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ho did what ?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roach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50800" y="1187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ly growing quantities of digital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research in content-based retrieval from digital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no common basis for evaluation/comparison of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463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ach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s much video data as possible and make it available to the community of resear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1375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 to build an open, metrics-based evaluation in the Cranfield/TREC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1375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ite participation and see what happen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60240" y="26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E7B-3829-497B-9172-F260E3A108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08240" y="800280"/>
            <a:ext cx="6705360" cy="45133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Accenture Technology Laborat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Extract I-frames from encoded strea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mpute 3 Chi-square values across 3 separate histograms … global intensity, row intensity and column intensity and apply threshold, then combi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is gives indicator location and is followed by frame decoding and fine-grained examin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7F2-05D2-4407-91F4-9705DB96BF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478560" y="173844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36E-4ED7-4D37-9A8B-E548697562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478560" y="181440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01C-64FF-4395-90C6-575497DEE37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478560" y="173844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3B9-2ACE-4C00-8437-F7AE6C3BC3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8240" y="800280"/>
            <a:ext cx="6705360" cy="35913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CLIPS-IMA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ased on image differences with motion compensation which uses optical flow as a pre-process and direct detection of dissol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ame as used in TV2001 and TV2002 with little modific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lso includes direct detection of camera flash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D4D-CD51-446B-8070-6F6CED3248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478560" y="203040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813-A030-4901-98DD-154FD8A871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478560" y="210672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96C-A592-4475-8BC9-F0CBE4FD50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478560" y="203040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A5A-77DD-4465-97F7-4AFD803206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08240" y="800280"/>
            <a:ext cx="6705360" cy="47037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Fudan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Reused TV2002 SBD approach based on frame-frame comparison using luminance difference and colour histogram similar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daptive thres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Detection of camera flash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GTs are searched seeking a black frame to determine whether they are fades, else dissol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041-46D8-45B2-8456-C51F28980B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478560" y="23860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01640" y="128916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8916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F90-EA43-4615-B647-767A246FE4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1368360"/>
            <a:ext cx="77691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ote progress in content-based retrieval from large amounts of digita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some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systems achieve such retrieval (in collaboration with a human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one reliably benchmark such system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6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60240" y="26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D79-1AF2-4949-B7E1-6850DA3BD9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478560" y="244944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73A-67F3-439A-964A-1640B3E08CD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478560" y="23986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9C7-3D94-4A94-A918-6C211CF52C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08240" y="800280"/>
            <a:ext cx="6705360" cy="48790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FX-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or each frame compute self-similarity against all in a window of past and future frames, as well as cross-similarity between past &amp; future fram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Generates a similarity matrix and examine characteristics of this matrix to indicate cuts and G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Includes a clever way to reduce computation cos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98F-BEA0-4D8B-B201-AADD49A860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478560" y="270360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910-3779-4882-BC39-E9EB26C8D2B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478560" y="27417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C60-E06F-40E9-84E6-499271ADB18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478560" y="270360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8B3-8E36-4144-BEE9-DDAA2811136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08240" y="800280"/>
            <a:ext cx="6705360" cy="26845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IBM Re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Used SBD from CueVideo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128-835F-488C-BF63-685E602AE1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478560" y="303372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DBC-2734-40A9-A617-EC4BA4E64DA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478560" y="30844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305-7520-4760-B554-F5D3CAE6D88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478560" y="30592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CDA-6F79-4DB2-8A1E-5D7214B1755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0240" y="3106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…   2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8360" y="1392120"/>
            <a:ext cx="79088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C 2001 Video retrieval tr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: 11 hrs (OpenVideo, N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Task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boundary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524"/>
              </a:spcBef>
              <a:buClr>
                <a:srgbClr val="00808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lly automa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524"/>
              </a:spcBef>
              <a:buClr>
                <a:srgbClr val="00808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groups: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F80-4310-4D01-A5F9-A098999FD8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08240" y="800280"/>
            <a:ext cx="6705360" cy="3416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Imperial College Lond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lour histogram similarity of adjacent frames with a constant similarity threshol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ame as TV2002 and showing tradeoff of P vs. R as threshold var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Good performance for simple approa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019-0876-47D5-B675-2937241F7E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478560" y="336384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0D6-386D-417C-A087-22A94948558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478560" y="341460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9B3-6BE8-400B-862D-261D2008D80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478560" y="336384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ED4-7A4C-435A-BECF-E7CFEF89CE1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08240" y="800280"/>
            <a:ext cx="6705360" cy="58010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KD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or cuts, preprocess the encoded MPEG-1 stream to locate high inter-frame differences using motion vectors then decode likely frames and test for luminance and chrominance differen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or dissolves, detect gradual changing over time using DCT activity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pecific detection looking for wipes, and for camera flash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ecause it processes encoded stream, 24x real time on P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430-E77F-4595-B16B-C2A96337F58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478560" y="369396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01640" y="128124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8124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424-075F-4086-BD05-D56E142CB4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478560" y="373212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6C1-7EBC-4AD2-AAA1-E5B43CA4A5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478560" y="369396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66B-7430-45D4-B48A-E5DE434596C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08240" y="800280"/>
            <a:ext cx="6705360" cy="35913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KU Leu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daptive thresholding on the average intensity differences between adjacent fram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Includes motion compensation which computes an affine transformation between consecutive fram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DE3-AD03-42E8-BE8F-342C23FAD0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478560" y="402444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C6E-A303-441E-8E7A-E90D85CAF7D6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0240" y="31068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…  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1080" y="1274760"/>
            <a:ext cx="79088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C 2002 Video retrieval tr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: 73 hrs (Prelinger Arch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 boundary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feature extraction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(manual and intera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groups: 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shot reference defines unit of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key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features, ASR output provided by LIM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A36-FB29-4D22-AE5B-82E5AB3019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478560" y="404964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888-7CEF-4D98-8A6E-6C4C11CA266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478560" y="402444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D91-C9CD-4538-AAC9-4AB407164D5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08240" y="800280"/>
            <a:ext cx="6705360" cy="4322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Ramon Llull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Global colour histogram differences as a measure of discontinuity is used to detect cu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or GTs, a method to account for linear colour variation of images across the duration of the GT, with specific treatment of moving objects during the GT which can distort 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14C-3AF6-47F5-BF4A-979F85BB39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478560" y="43545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82F-4D61-4D65-B48C-55A95830F57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478560" y="4379760"/>
            <a:ext cx="1982880" cy="284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DC5-3303-4A5F-B0D9-3567865E4E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478560" y="43545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56D-D6F1-4BBB-A806-91F995A28D46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08240" y="800280"/>
            <a:ext cx="6705360" cy="47037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RMIT Univer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arget G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Using a moving window of (200) frames, use current frame as a QBE against all in the window with a 6-frame DMZ around current fr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ased on frame-frame similarity and adaptive thresho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 refinement on TV200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B38-F634-4862-8B93-4C7D4ABDB9B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745320" y="13701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8CC-92FF-40A3-A88E-0E5DC87DC6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85000" y="14590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6C8-89F0-4EBA-B7C3-CAB02DAEC1D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745320" y="13701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7CA-FD91-4181-9799-DEA8BF3A1F8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9600" y="1295280"/>
            <a:ext cx="80773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CVID Worksh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: 133 hrs (1998 ABC/CNN news + C-SP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t boundary deter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level feature extraction (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y segmentation and class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arch (manual and interacti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groups: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annotation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isory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60240" y="26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…   20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788-E99B-407A-A9AF-265B2E96E6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08240" y="800280"/>
            <a:ext cx="6705360" cy="379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University of Br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mbination of 3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hanges in image lumin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gray level histogram differen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FT feature extr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mbined, with adaptive thresho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0E5-A1DF-499B-836B-3CC390D5E5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745320" y="46720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D6F-DBBC-4BB0-95F2-DA055027354B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872400" y="4722840"/>
            <a:ext cx="198252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241-A5E5-4C21-9EED-6A870C829CF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745320" y="46720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484-EE0E-4E51-83A7-553F2F6D22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08240" y="800280"/>
            <a:ext cx="6705360" cy="50695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University of Central Flor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lour histogram intersection of frames with sub-sampling of video at 5fp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is gives approximate location of shot bounds, followed by fine-grained frame-frame comparison using 24-bin colour histogra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Post-processing to detect abrupt changes in illumination (camera flash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lso determined transition typ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5D5-3141-40A6-BAD5-24DEC75F5D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745320" y="50403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F50-50F1-4730-A002-485695B7E619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72400" y="5052960"/>
            <a:ext cx="198252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606-7075-4DB0-8203-7B906CF2637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45320" y="504036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6A1-6811-44B7-AD7E-BE4C2481C6D2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08240" y="800280"/>
            <a:ext cx="6705360" cy="48942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University of 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mparison of adjacent frames 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12-bin global colour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60x60 pixel thumbnail vs. thumbnail based on pixel/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obel filtering and detected edg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nd then Boolean and arithmetic product combinations of the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6699"/>
                </a:solidFill>
                <a:latin typeface="Verdana"/>
              </a:rPr>
              <a:t>Presentation to follow</a:t>
            </a: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707-0E2C-4F43-96E8-98078C564B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745320" y="53704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96920" y="1603440"/>
            <a:ext cx="3967200" cy="328752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CD1-A068-417D-9FE8-106A34E2550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69960" y="1295280"/>
            <a:ext cx="83088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Eaki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iversity of Northumbria at Newcastle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Ens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(University of Bright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Hauptman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MU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mieke de Jo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therlands Institute for Sound &amp; Vi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L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iden Insitute of Advanced Computer Science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s Que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IPS-IMAG Laborator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mi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(IB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00808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(BB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60240" y="26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isory commit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6A3-8236-473A-BAB6-1092BD087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72400" y="5370480"/>
            <a:ext cx="198252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711-6063-409B-88D7-7A4DCF99F4C9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745320" y="537048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6DC-682A-4F41-8C5A-302066A9ADB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08240" y="800280"/>
            <a:ext cx="6705360" cy="21283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6699"/>
                </a:solidFill>
                <a:latin typeface="Verdana"/>
              </a:rPr>
              <a:t>University of Kan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No details available at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5D7-E067-47F4-A4F3-B20A8CD7B7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745320" y="568800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738360" y="1281240"/>
          <a:ext cx="815004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1281240"/>
                    <a:ext cx="815004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all and precision for cuts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zoom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39760" y="1589040"/>
            <a:ext cx="3967200" cy="328788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08A-7D3E-4C74-938A-B4B4E65A4DF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72400" y="5688000"/>
            <a:ext cx="198252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701640" y="1392120"/>
          <a:ext cx="828828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392120"/>
                    <a:ext cx="82882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dua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n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9B5-1415-4F88-9706-A8E9B8DD443F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745320" y="5688000"/>
            <a:ext cx="1982880" cy="2840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701640" y="1295280"/>
          <a:ext cx="8150400" cy="481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295280"/>
                    <a:ext cx="81504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me-recall &amp; -precision for G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6DB-F8DB-41BB-94B4-EA526B19AA86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Most techniques are based on frame-frame comparisons, some with sliding window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Comparisons are based on colour and on luminance, mostl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ome use adaptive thresholding, some don’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Most operate on decoded video strea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ome have special treatment of motion during GTs, of flashes, of camera wip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Performances are getting bett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6ED-5BC3-4EE8-9687-A0CEBF38940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ask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the individual news items in a news sh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task in TRECVID, has been studied in ASR/IR community (TD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pe to show the gain of using video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Segmentation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story boundaries in CNN and ABC news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nd truth based on TDT 2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based on precision &amp; recall, boundaries have to be within +/- 5 seconds interval around ground truth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News classification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otate stories as either news or non-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based on percentage of correctly identified news story foo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D3A-3E4D-4648-A170-407BB99355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181160" y="1854360"/>
            <a:ext cx="655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DDI (J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ional Univ. Singapore (S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Sage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Iowa (US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38C-3B03-456E-BA49-A5C28FF76F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y segmentation: recall and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42880" y="1457280"/>
          <a:ext cx="8291520" cy="501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457280"/>
                    <a:ext cx="829152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642-8820-497A-9BD9-88CE121A2F03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63520" y="1066680"/>
            <a:ext cx="6553440" cy="61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nture Technology Laboratories (US)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negie Mellon Univ. (US)                                 X      X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PS-IMAG (FR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            X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WI Amsterdam / Univ. of Twente (NL)                       X      X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X            X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      X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X-Pal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      X     X    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X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diana University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X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titut Eurecom (FR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DDI (JP)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U Leuven (BE)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diamill/U Amsterdam (NL)                            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ational Univ. Singapore (Sing.)                     X            X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mon Llull Univ. (ES)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MIT University (Aus)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eamSage (US)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Bremen (D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Central Florida  (US)                X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Iowa (US)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Kansas (US)                          X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North Carolina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ulu/VTT (FI)                                        X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47680" y="1066680"/>
            <a:ext cx="6492960" cy="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78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118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ts   Stories  Features  Search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3240" y="6172200"/>
            <a:ext cx="6456240" cy="36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4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2132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3116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40640" y="1066680"/>
            <a:ext cx="0" cy="51055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9840" y="17287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9840" y="2362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39840" y="2987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41280" y="3616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1920" y="425448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33360" y="4894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1920" y="5522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5AE-FD09-45F8-8596-D03A4E27FA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y segmentation: recall and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system and condition (1-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538200" y="1454040"/>
          <a:ext cx="8077320" cy="484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200" y="1454040"/>
                    <a:ext cx="80773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2771640" y="37306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94160" y="316872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64040" y="292248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21040" y="234324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4840" y="249084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8480" y="2409840"/>
            <a:ext cx="26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54240" y="43052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74720" y="408456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2360" y="35701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21040" y="245916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13080" y="22352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4200" y="37940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76360" y="44989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30480" y="42958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475000" y="42386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8320" y="303696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05160" y="438948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459240" y="311292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95360" y="27496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05000" y="40705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7440" y="444816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52560" y="43894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05240" y="413532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51200" y="22939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51360" y="478800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3600" y="275580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08440" y="234324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33840" y="23018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40040" y="21448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75040" y="219240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00360" y="355752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38320" y="41212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70160" y="43196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5920" y="89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89240" y="1814400"/>
            <a:ext cx="1332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V+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V+A+A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A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92520" y="29019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8080"/>
                </a:solidFill>
                <a:latin typeface="Verdana"/>
              </a:rPr>
              <a:t>TD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368600" y="3095640"/>
            <a:ext cx="307800" cy="684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7F0-C000-416C-A85C-517CF0CA696D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egmentation, within system (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974880" y="1235160"/>
          <a:ext cx="7105320" cy="501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4880" y="1235160"/>
                    <a:ext cx="71053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8A0-46DB-4133-B41E-6E14AAC751A6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y classsification: news recall and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541440" y="1459080"/>
          <a:ext cx="8076960" cy="48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1459080"/>
                    <a:ext cx="8076960" cy="48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3741840" y="1658880"/>
            <a:ext cx="2334960" cy="187344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AFB-7BC5-468A-8DB4-FE46C5FEA489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y classsification: news recall and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condition - zoo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541440" y="1459080"/>
          <a:ext cx="8076960" cy="48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1459080"/>
                    <a:ext cx="8076960" cy="48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1467000" y="1608120"/>
            <a:ext cx="4641840" cy="376560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1F5-CFCB-477A-A46E-9D190AD97FD0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y classifcation: news recall and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538200" y="1447920"/>
          <a:ext cx="8077320" cy="484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200" y="1447920"/>
                    <a:ext cx="80773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2592360" y="3570120"/>
            <a:ext cx="23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41840" y="1658880"/>
            <a:ext cx="2334960" cy="187344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57A-7B8B-4D1B-8B9F-233B19F402C3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461960" y="1616040"/>
            <a:ext cx="4600800" cy="3738600"/>
          </a:xfrm>
          <a:prstGeom prst="rect">
            <a:avLst/>
          </a:prstGeom>
          <a:noFill/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528480" y="1447920"/>
          <a:ext cx="8077320" cy="484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447920"/>
                    <a:ext cx="80773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5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ory classifcation: news recall and precis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y system and condition (1-4) zoo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592360" y="3570120"/>
            <a:ext cx="23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65428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249228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095720" y="281304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27520" y="23432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62600" y="192240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37000" y="197640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83280" y="188424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76760" y="2557440"/>
            <a:ext cx="2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27760" y="3965400"/>
            <a:ext cx="2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80000" y="289080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54200" y="246384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27200" y="27097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46400" y="285444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264492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2280" y="19573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86240" y="17812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49800" y="176040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38760" y="379584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00800" y="386712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24280" y="279720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26000" y="214776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89560" y="20239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65600" y="2003400"/>
            <a:ext cx="2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84720" y="3164040"/>
            <a:ext cx="2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713120" y="3516480"/>
            <a:ext cx="2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221440" y="3184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00760" y="3868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10400" y="389556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56320" y="3930480"/>
            <a:ext cx="2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51560" y="3965400"/>
            <a:ext cx="2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14640" y="1731960"/>
            <a:ext cx="1332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V+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V+A+A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A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BE2-AE12-4F7F-90E7-CBF6D102AD26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assification, within system (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1068480" y="1397160"/>
          <a:ext cx="6859440" cy="48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8480" y="1397160"/>
                    <a:ext cx="685944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542-D56F-4A56-B9E8-62CC07D635D1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181160" y="1854360"/>
            <a:ext cx="655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DDI (J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ional Univ. Singapore (S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Sage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Iowa (US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81200" y="1012680"/>
            <a:ext cx="6705720" cy="514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Fuda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nchor detection based on clustering and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mercial detection based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SR segmentation using a variant of Text-t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ule based and Maxent class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ews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MM/Maxent using music, commercial and speech proportion a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C95-D5BE-48F9-99FD-636D56185D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81160" y="1854360"/>
            <a:ext cx="655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DDI (J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ional Univ. Singapore (S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Sage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Iowa (US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681200" y="1012680"/>
            <a:ext cx="6705720" cy="54961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KD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ll shots are classified as ANCHOR, REPORT or COMMERCIAL, using audio &amp; motion intensity, color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SVM. Subsequently rule based seg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rect classification of boundaries, using the features of two shots before and after the boundary candidate. S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VM for NEWS-NEWS, NEWS-MISC and MISC 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640-A651-4D93-8EDE-C9960CB262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181160" y="1854360"/>
            <a:ext cx="655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DDI (J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ional Univ. Singapore (S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Sage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Iowa (US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30440" y="1355760"/>
            <a:ext cx="6705360" cy="4955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StreamSage (/ D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SR only segmentation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ree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exical chaining to define topically coheren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ariant of text-t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se methods 1 and 2  for compiling a list of cue-phrases that announce topic introduction or 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CDD-7487-4F00-8848-6246F28DE5A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t Boundary Detection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BD is an enabling function for almost all content-based operations on digital video, so its importan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Still) no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 new problem, but a challenge because of gradual transitions and false positives caused by photo flashes, rapid camera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ovement,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bject movem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, etc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ask is to identify transitions and determine whether each is “cut”, “dissolve”, “fadeout/in” or “other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ECVID2003 dataset is slightly (10%) larger than 2002 but has many more (78%) shot transitio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AEA-34B0-411E-9C49-A2A6313D89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181160" y="1854360"/>
            <a:ext cx="655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DDI (J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ional Univ. Singapore (S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Sage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Iowa (US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39800" y="1335240"/>
            <a:ext cx="6705720" cy="477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University of Central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bined Segmentation and Class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tory boundaries are marked by blank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ong story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news, short story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non-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rge adjacent non-news 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clusion: story length is a strong feature for news classification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6EB-2134-4222-AEE0-5AE79A5E6C0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181160" y="1854360"/>
            <a:ext cx="655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blin City University (Irl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DDI (J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tional Univ. Singapore (Sin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Sage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Central Florida  (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v. of Iowa (US)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head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39800" y="1335240"/>
            <a:ext cx="6705720" cy="3796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Dublin City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IBM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National University Sing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University of 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esentations follow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E2B-DACF-4D5B-8FF1-644A7A0C1E0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deo provides strong clues for story segmentation and even more for classification, best runs are either type 1 o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V runs generally have a higher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bination of AV and ASR gives a small gain for 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st  approaches are gene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e the combination methods optim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e the ASR segmentation runs state of the ar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09F-A82C-4CFC-B647-59CC71877E05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E Task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al: Build benchmark for detection methods of high-level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ondary goal: feature-indexing can help search and navi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: common feature an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s (a.o.) to standardize training resources across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ategory 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tes work with just the common development data and common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ategory B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tes work with just the common development data and any annotation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ategory C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60C-C73C-40B5-BAA3-70CCB40B02BE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E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ach feature is assumed to be binary: absent or present for each sho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ind shots that contain a certain feature, rank them according to confidence measure, submit the top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ubmissions are poo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valuate performance quality by measuring the </a:t>
            </a:r>
            <a:r>
              <a:rPr b="0" i="1" lang="nl-NL" sz="2600" spc="-1" strike="noStrike">
                <a:solidFill>
                  <a:srgbClr val="000000"/>
                </a:solidFill>
                <a:latin typeface="Arial"/>
              </a:rPr>
              <a:t>average precision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of each feature detection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A59-82E8-42B4-BF3C-3F2F9BAEA98C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123920" y="1587600"/>
            <a:ext cx="6553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nture Technology Laboratories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. (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PS-IMAG (F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WI Amsterdam / Univ. of Twente (N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dan Univ. (Chin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Research (U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 College London (U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 Eurecom (F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. of Central Florida  (U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. Oulu/VTT (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92640" y="736560"/>
            <a:ext cx="28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21920" y="1522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Participating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4F6-B974-4C62-BEE0-7C4259CBBFD1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7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o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 subject face – not a news show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– at least three hum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– walled structure with 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getation – living vegetation in its natural en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 speech – woman speaking (visible, audib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/truck/bus – exterior of 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D0E-1C64-4428-B247-C324538375AE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7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58360" y="1368360"/>
            <a:ext cx="80010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 subject monologue – uninterrup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studio set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rting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ather n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om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violence – between people /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deleine Albright – vi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39F-81C8-40CA-9433-C2DA91B37904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1011240" y="15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0000" y="1333440"/>
            <a:ext cx="84312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1 12 13 14 15 16 17 18 19 20 21 22 23 24 25 26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ccenture Technology Laboratories (US)                       X                 X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negie Mellon Univ. (US)              X  X  X  X  X  X  X  X  X  X  X  X  X  X  X  X 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PS-IMAG (FR)                                                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WI Amsterdam / Univ. of Twente (NL)    X  X  X  X  X  X  X     X  X     X  X  X     X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dan Univ. (China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X  X  X  X  X  X  X  X  X  X  X  X  X  X  X  X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BM Research (US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X  X  X  X  X  X  X  X  X  X  X  X  X  X  X  X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perial College London (UK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titut Eurecom (FR)                   X  X  X  X  X  X  X  X  X  X     X  X  X     X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f Central Florida  (US)                                         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iv. Oulu/VTT (FI)                     X  X  X  X  X  X  X  X  X  X  X  X  X  X    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6  6  6  6  6  7  6  6  6  6  4  7  6  8  3  6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2680" y="1301760"/>
            <a:ext cx="8221680" cy="46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737240" y="1320840"/>
            <a:ext cx="7920" cy="45561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5562360" y="1319040"/>
            <a:ext cx="6120" cy="4570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968040" y="1066680"/>
            <a:ext cx="0" cy="5257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012320" y="754200"/>
            <a:ext cx="106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131400" y="-360"/>
            <a:ext cx="835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worked on which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396120" y="1298520"/>
            <a:ext cx="14040" cy="4606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219800" y="1333440"/>
            <a:ext cx="0" cy="4543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8028000" y="1312920"/>
            <a:ext cx="14400" cy="4557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89160" y="16621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89160" y="20606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09680" y="24876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05000" y="58752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3560" y="2884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11480" y="333684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602560" y="1306440"/>
            <a:ext cx="0" cy="4570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97080" y="377676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14720" y="4216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00320" y="459432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0320" y="50166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85920" y="5432400"/>
            <a:ext cx="6400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2040" y="965160"/>
            <a:ext cx="8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18900000">
            <a:off x="4285440" y="7725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8900000">
            <a:off x="3713400" y="75672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indo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8900000">
            <a:off x="3966120" y="685080"/>
            <a:ext cx="101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News 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8900000">
            <a:off x="5130000" y="67428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8900000">
            <a:off x="4607280" y="7696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8900000">
            <a:off x="4883760" y="7966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18900000">
            <a:off x="6021720" y="7776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8900000">
            <a:off x="5450760" y="7614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18900000">
            <a:off x="5672520" y="550440"/>
            <a:ext cx="13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Female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8900000">
            <a:off x="7677360" y="67068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Zoo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8900000">
            <a:off x="7074720" y="5806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Sport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8900000">
            <a:off x="7356960" y="524880"/>
            <a:ext cx="132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Weather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8900000">
            <a:off x="6820560" y="672840"/>
            <a:ext cx="102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Non st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8900000">
            <a:off x="6293160" y="764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8900000">
            <a:off x="6526440" y="690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News m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8900000">
            <a:off x="7800120" y="36612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Physical vio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8900000">
            <a:off x="8210880" y="610920"/>
            <a:ext cx="11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Perso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D9C-92E4-4E7C-9B8A-C6E4C8763C4A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49000" y="26316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vgP by feature (all runs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 rot="5400000">
            <a:off x="1749600" y="-291960"/>
            <a:ext cx="5495760" cy="78516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39040" y="474804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iddle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of th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273320" y="4768920"/>
            <a:ext cx="187200" cy="492120"/>
          </a:xfrm>
          <a:custGeom>
            <a:avLst/>
            <a:gdLst>
              <a:gd name="textAreaLeft" fmla="*/ 119520 w 187200"/>
              <a:gd name="textAreaRight" fmla="*/ 187560 w 18720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7520" y="554184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e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992160" y="5170320"/>
            <a:ext cx="498600" cy="533520"/>
          </a:xfrm>
          <a:prstGeom prst="line">
            <a:avLst/>
          </a:prstGeom>
          <a:ln w="158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ECVID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08F-6115-45E6-AAFF-C768550DAA71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. Nov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13:52:04Z</dcterms:created>
  <dc:creator>NLPIR</dc:creator>
  <dc:description/>
  <dc:language>en-US</dc:language>
  <cp:lastModifiedBy>over</cp:lastModifiedBy>
  <cp:lastPrinted>2001-05-15T14:38:20Z</cp:lastPrinted>
  <dcterms:modified xsi:type="dcterms:W3CDTF">2003-11-24T20:20:59Z</dcterms:modified>
  <cp:revision>165</cp:revision>
  <dc:subject/>
  <dc:title>TREC-10 Video Track Proposal</dc:title>
</cp:coreProperties>
</file>