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938-B4F2-44C2-8326-1924AA7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AF3-3B75-4DB5-B2AC-31378C75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8FD-5FA3-4203-AED9-D694A925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A8F8-1600-4FE9-9A05-9B0C58B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2166-C16B-4678-B9ED-53B6DE0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42E-CA39-458E-BBA2-41BC17FB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BBA-CEB4-4B01-9B4B-28BC07E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050-2345-4883-ACD4-C684BD0C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855-935F-4A6D-9645-F97AD34D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D271-EF64-4AED-8A2A-6339190D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E4B-5FE1-42E8-ABC6-28DDDD3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D9C6-696C-4D3B-8077-086F101C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Arial"/>
              </a:rPr>
              <a:t>TRECVID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0B7C-B552-4578-B28A-09418DC24ED0}" type="slidenum">
              <a:rPr b="0" lang="en-US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28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700360"/>
            <a:ext cx="64008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zvetanka (‘Tzveta’) I. Ianev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Lioudmila (‘Mila’) Boldarev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Thijs Westerveld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Roberto Cornacchi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Djoerd Hiemstra (the 1 and only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Arjen P. de Vrie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95400" y="391680"/>
            <a:ext cx="715176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Probabilistic Approaches</a:t>
            </a:r>
            <a:br>
              <a:rPr sz="3600"/>
            </a:br>
            <a:r>
              <a:rPr b="0" lang="en-GB" sz="1600" spc="-1" strike="noStrike">
                <a:solidFill>
                  <a:srgbClr val="a50021"/>
                </a:solidFill>
                <a:latin typeface="Arial"/>
              </a:rPr>
              <a:t>to</a:t>
            </a:r>
            <a:br>
              <a:rPr sz="2400"/>
            </a:br>
            <a:r>
              <a:rPr b="1" lang="en-GB" sz="4000" spc="-1" strike="noStrike">
                <a:solidFill>
                  <a:srgbClr val="a50021"/>
                </a:solidFill>
                <a:latin typeface="Arial"/>
              </a:rPr>
              <a:t>Video Retrieval</a:t>
            </a:r>
            <a:br>
              <a:rPr sz="2800"/>
            </a:b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The Lowlands Team at TRECVID 2004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300800" y="2712960"/>
            <a:ext cx="328680" cy="2990880"/>
            <a:chOff x="7300800" y="2712960"/>
            <a:chExt cx="328680" cy="29908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7300800" y="3821040"/>
              <a:ext cx="32724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rcRect l="0" t="0" r="39459" b="0"/>
            <a:stretch/>
          </p:blipFill>
          <p:spPr>
            <a:xfrm>
              <a:off x="7327800" y="2712960"/>
              <a:ext cx="273240" cy="43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302600" y="4343400"/>
              <a:ext cx="32688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7300800" y="5376960"/>
              <a:ext cx="32724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utlogo" descr=""/>
            <p:cNvPicPr/>
            <p:nvPr/>
          </p:nvPicPr>
          <p:blipFill>
            <a:blip r:embed="rId5"/>
            <a:stretch/>
          </p:blipFill>
          <p:spPr>
            <a:xfrm>
              <a:off x="7302600" y="4865760"/>
              <a:ext cx="326880" cy="3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utlogo" descr=""/>
            <p:cNvPicPr/>
            <p:nvPr/>
          </p:nvPicPr>
          <p:blipFill>
            <a:blip r:embed="rId6"/>
            <a:stretch/>
          </p:blipFill>
          <p:spPr>
            <a:xfrm>
              <a:off x="7300800" y="3319560"/>
              <a:ext cx="32724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Experimental Set-up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uild models for each sho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, Dynamic,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Build queries from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ic as well as manually constructed simple keyword text qu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visu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odelling Visual Conten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Static Mode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803160" y="1420920"/>
            <a:ext cx="4459320" cy="4730760"/>
            <a:chOff x="803160" y="1420920"/>
            <a:chExt cx="4459320" cy="473076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3774960" y="5238720"/>
              <a:ext cx="1485720" cy="911160"/>
            </a:xfrm>
            <a:prstGeom prst="rect">
              <a:avLst/>
            </a:prstGeom>
            <a:ln w="28440">
              <a:solidFill>
                <a:srgbClr val="003399"/>
              </a:solidFill>
              <a:miter/>
            </a:ln>
          </p:spPr>
        </p:pic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4960" y="1895400"/>
              <a:ext cx="1485720" cy="911160"/>
            </a:xfrm>
            <a:prstGeom prst="rect">
              <a:avLst/>
            </a:prstGeom>
            <a:ln w="28440">
              <a:solidFill>
                <a:srgbClr val="003399"/>
              </a:solidFill>
              <a:miter/>
            </a:ln>
          </p:spPr>
        </p:pic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3774960" y="4149720"/>
              <a:ext cx="1487520" cy="911160"/>
            </a:xfrm>
            <a:prstGeom prst="rect">
              <a:avLst/>
            </a:prstGeom>
            <a:ln w="28440">
              <a:solidFill>
                <a:srgbClr val="003399"/>
              </a:solidFill>
              <a:miter/>
            </a:ln>
          </p:spPr>
        </p:pic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3774960" y="3060720"/>
              <a:ext cx="1485720" cy="911160"/>
            </a:xfrm>
            <a:prstGeom prst="rect">
              <a:avLst/>
            </a:prstGeom>
            <a:ln w="28440">
              <a:solidFill>
                <a:srgbClr val="003399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5"/>
            <a:stretch/>
          </p:blipFill>
          <p:spPr>
            <a:xfrm>
              <a:off x="803160" y="5237280"/>
              <a:ext cx="1474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6"/>
            <a:stretch/>
          </p:blipFill>
          <p:spPr>
            <a:xfrm>
              <a:off x="803160" y="4149720"/>
              <a:ext cx="1474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7"/>
            <a:stretch/>
          </p:blipFill>
          <p:spPr>
            <a:xfrm>
              <a:off x="803160" y="3060720"/>
              <a:ext cx="147456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8"/>
            <a:stretch/>
          </p:blipFill>
          <p:spPr>
            <a:xfrm>
              <a:off x="803160" y="1892160"/>
              <a:ext cx="1474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03360" y="2349360"/>
              <a:ext cx="1218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03360" y="3514680"/>
              <a:ext cx="1218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03360" y="4600440"/>
              <a:ext cx="1218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3360" y="5688000"/>
              <a:ext cx="121896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79120" y="1420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ahoma"/>
                </a:rPr>
                <a:t>Do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27240" y="1420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Tahoma"/>
                </a:rPr>
                <a:t>Mode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484960" y="1917720"/>
            <a:ext cx="2947680" cy="39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Ind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imate Gaussian Mixture Models from images using 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feature vector with colour, texture and position information from pixel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number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956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Static Mode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0" y="1512360"/>
            <a:ext cx="39542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Indexing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282600" indent="280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a Gaussian Mixture Model from each keyframe (using 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280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xed number of components (C=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280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ture vectors contain colour, texture, and position information from pixel block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&lt; x,y,DCT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58840" y="1504800"/>
            <a:ext cx="375912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Dynamic Mode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7651"/>
          <a:stretch/>
        </p:blipFill>
        <p:spPr>
          <a:xfrm>
            <a:off x="1933560" y="162720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0" t="0" r="0" b="17651"/>
          <a:stretch/>
        </p:blipFill>
        <p:spPr>
          <a:xfrm>
            <a:off x="1805040" y="178596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0" t="0" r="0" b="17651"/>
          <a:stretch/>
        </p:blipFill>
        <p:spPr>
          <a:xfrm>
            <a:off x="1674720" y="194472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17651"/>
          <a:stretch/>
        </p:blipFill>
        <p:spPr>
          <a:xfrm>
            <a:off x="1546200" y="210348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rcRect l="0" t="0" r="0" b="17651"/>
          <a:stretch/>
        </p:blipFill>
        <p:spPr>
          <a:xfrm>
            <a:off x="1415880" y="2260440"/>
            <a:ext cx="2557800" cy="2711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rcRect l="0" t="0" r="0" b="17651"/>
          <a:stretch/>
        </p:blipFill>
        <p:spPr>
          <a:xfrm>
            <a:off x="1287360" y="241920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rcRect l="0" t="0" r="0" b="17651"/>
          <a:stretch/>
        </p:blipFill>
        <p:spPr>
          <a:xfrm>
            <a:off x="1157400" y="257796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8"/>
          <a:srcRect l="0" t="0" r="0" b="17651"/>
          <a:stretch/>
        </p:blipFill>
        <p:spPr>
          <a:xfrm>
            <a:off x="1027080" y="2735280"/>
            <a:ext cx="2557440" cy="2711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1444680" y="5294160"/>
            <a:ext cx="1913040" cy="14367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281560" y="2038320"/>
            <a:ext cx="3176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dex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28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MM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s around key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2600" indent="280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vectors extended with time-stamp normalized in [0,1]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&lt;x,y,t,D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4400" y="49006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11760" y="4343400"/>
            <a:ext cx="8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08480" y="372744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3478" t="14840" r="2648" b="8409"/>
          <a:stretch/>
        </p:blipFill>
        <p:spPr>
          <a:xfrm>
            <a:off x="1438200" y="1655640"/>
            <a:ext cx="6267600" cy="46245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rcRect l="7140" t="26545" r="3453" b="9570"/>
          <a:stretch/>
        </p:blipFill>
        <p:spPr>
          <a:xfrm>
            <a:off x="3489480" y="3268800"/>
            <a:ext cx="4354200" cy="280800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88" name="q411n" descr=""/>
          <p:cNvPicPr/>
          <p:nvPr/>
        </p:nvPicPr>
        <p:blipFill>
          <a:blip r:embed="rId1"/>
          <a:stretch/>
        </p:blipFill>
        <p:spPr>
          <a:xfrm>
            <a:off x="1628640" y="1511280"/>
            <a:ext cx="6413760" cy="4927680"/>
          </a:xfrm>
          <a:prstGeom prst="rect">
            <a:avLst/>
          </a:prstGeom>
          <a:ln w="0">
            <a:noFill/>
          </a:ln>
        </p:spPr>
      </p:pic>
      <p:pic>
        <p:nvPicPr>
          <p:cNvPr id="189" name="q411b" descr=""/>
          <p:cNvPicPr/>
          <p:nvPr/>
        </p:nvPicPr>
        <p:blipFill>
          <a:blip r:embed="rId2"/>
          <a:stretch/>
        </p:blipFill>
        <p:spPr>
          <a:xfrm>
            <a:off x="3681360" y="3597120"/>
            <a:ext cx="4388040" cy="27482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191" name="q240_6n" descr=""/>
          <p:cNvPicPr/>
          <p:nvPr/>
        </p:nvPicPr>
        <p:blipFill>
          <a:blip r:embed="rId1"/>
          <a:stretch/>
        </p:blipFill>
        <p:spPr>
          <a:xfrm>
            <a:off x="1616040" y="1522440"/>
            <a:ext cx="6219720" cy="4954680"/>
          </a:xfrm>
          <a:prstGeom prst="rect">
            <a:avLst/>
          </a:prstGeom>
          <a:ln w="0">
            <a:noFill/>
          </a:ln>
        </p:spPr>
      </p:pic>
      <p:pic>
        <p:nvPicPr>
          <p:cNvPr id="192" name="q240_6b" descr=""/>
          <p:cNvPicPr/>
          <p:nvPr/>
        </p:nvPicPr>
        <p:blipFill>
          <a:blip r:embed="rId2"/>
          <a:stretch/>
        </p:blipFill>
        <p:spPr>
          <a:xfrm>
            <a:off x="3666960" y="3516480"/>
            <a:ext cx="4451400" cy="28461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Dynamic vs. Static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Dynamic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s more relevant sh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7 vs. 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s these higher in the result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0.0124 vs. 0.00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opic 142 (has example from collection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finds 15 relevant vs. static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topic0142_4" descr=""/>
          <p:cNvPicPr/>
          <p:nvPr/>
        </p:nvPicPr>
        <p:blipFill>
          <a:blip r:embed="rId1"/>
          <a:stretch/>
        </p:blipFill>
        <p:spPr>
          <a:xfrm>
            <a:off x="6610320" y="1636560"/>
            <a:ext cx="2011320" cy="15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Example: Topic 136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19240" y="2284560"/>
            <a:ext cx="8705520" cy="1371600"/>
            <a:chOff x="219240" y="2284560"/>
            <a:chExt cx="8705520" cy="1371600"/>
          </a:xfrm>
        </p:grpSpPr>
        <p:pic>
          <p:nvPicPr>
            <p:cNvPr id="198" name="golf-dyn-1" descr=""/>
            <p:cNvPicPr/>
            <p:nvPr/>
          </p:nvPicPr>
          <p:blipFill>
            <a:blip r:embed="rId1"/>
            <a:stretch/>
          </p:blipFill>
          <p:spPr>
            <a:xfrm>
              <a:off x="219240" y="2284560"/>
              <a:ext cx="2011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golf-dyn-2" descr=""/>
            <p:cNvPicPr/>
            <p:nvPr/>
          </p:nvPicPr>
          <p:blipFill>
            <a:blip r:embed="rId2"/>
            <a:stretch/>
          </p:blipFill>
          <p:spPr>
            <a:xfrm>
              <a:off x="2449440" y="2284560"/>
              <a:ext cx="2011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golf-dyn-3" descr=""/>
            <p:cNvPicPr/>
            <p:nvPr/>
          </p:nvPicPr>
          <p:blipFill>
            <a:blip r:embed="rId3"/>
            <a:stretch/>
          </p:blipFill>
          <p:spPr>
            <a:xfrm>
              <a:off x="4681440" y="2284560"/>
              <a:ext cx="20113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golf-dyn-4" descr=""/>
            <p:cNvPicPr/>
            <p:nvPr/>
          </p:nvPicPr>
          <p:blipFill>
            <a:blip r:embed="rId4"/>
            <a:stretch/>
          </p:blipFill>
          <p:spPr>
            <a:xfrm>
              <a:off x="6913440" y="2284560"/>
              <a:ext cx="2011320" cy="13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219240" y="4529160"/>
            <a:ext cx="8705520" cy="1426680"/>
            <a:chOff x="219240" y="4529160"/>
            <a:chExt cx="8705520" cy="1426680"/>
          </a:xfrm>
        </p:grpSpPr>
        <p:pic>
          <p:nvPicPr>
            <p:cNvPr id="203" name="golf-static-1" descr=""/>
            <p:cNvPicPr/>
            <p:nvPr/>
          </p:nvPicPr>
          <p:blipFill>
            <a:blip r:embed="rId5"/>
            <a:stretch/>
          </p:blipFill>
          <p:spPr>
            <a:xfrm>
              <a:off x="219240" y="4584600"/>
              <a:ext cx="2011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golf-static-2" descr=""/>
            <p:cNvPicPr/>
            <p:nvPr/>
          </p:nvPicPr>
          <p:blipFill>
            <a:blip r:embed="rId6"/>
            <a:stretch/>
          </p:blipFill>
          <p:spPr>
            <a:xfrm>
              <a:off x="2449440" y="4582800"/>
              <a:ext cx="2011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golf-static-3" descr=""/>
            <p:cNvPicPr/>
            <p:nvPr/>
          </p:nvPicPr>
          <p:blipFill>
            <a:blip r:embed="rId7"/>
            <a:stretch/>
          </p:blipFill>
          <p:spPr>
            <a:xfrm>
              <a:off x="4681440" y="4571640"/>
              <a:ext cx="2011320" cy="137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golf-static-4" descr=""/>
            <p:cNvPicPr/>
            <p:nvPr/>
          </p:nvPicPr>
          <p:blipFill>
            <a:blip r:embed="rId8"/>
            <a:stretch/>
          </p:blipFill>
          <p:spPr>
            <a:xfrm>
              <a:off x="6913440" y="4529160"/>
              <a:ext cx="2011320" cy="137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>
            <a:off x="331920" y="171468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ank 1-4 (8 foun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1920" y="3908520"/>
            <a:ext cx="42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ank 1-4 (4 foun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609120"/>
            <a:ext cx="863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Generative Models…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A statistical model for generating da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bability distribution over samples in a given ‘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40160" y="2998800"/>
            <a:ext cx="990720" cy="838080"/>
          </a:xfrm>
          <a:prstGeom prst="flowChartMagneticDisk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4160" y="3379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24680" y="3379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039080" y="337968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6429240" y="3379680"/>
            <a:ext cx="15264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3160" y="315108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85800" y="3962520"/>
            <a:ext cx="2895480" cy="533160"/>
            <a:chOff x="685800" y="3962520"/>
            <a:chExt cx="2895480" cy="533160"/>
          </a:xfrm>
        </p:grpSpPr>
        <p:sp>
          <p:nvSpPr>
            <p:cNvPr id="59" name=""/>
            <p:cNvSpPr/>
            <p:nvPr/>
          </p:nvSpPr>
          <p:spPr>
            <a:xfrm>
              <a:off x="685800" y="3962520"/>
              <a:ext cx="2895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P (           | M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1080" y="419076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41907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6000" y="419076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1675800" y="4190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581280" y="3962520"/>
            <a:ext cx="2209680" cy="533160"/>
            <a:chOff x="3581280" y="3962520"/>
            <a:chExt cx="2209680" cy="533160"/>
          </a:xfrm>
        </p:grpSpPr>
        <p:sp>
          <p:nvSpPr>
            <p:cNvPr id="65" name=""/>
            <p:cNvSpPr/>
            <p:nvPr/>
          </p:nvSpPr>
          <p:spPr>
            <a:xfrm>
              <a:off x="3581280" y="3962520"/>
              <a:ext cx="2209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= P (   | M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4796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62520" y="4572000"/>
            <a:ext cx="2209680" cy="533160"/>
            <a:chOff x="3962520" y="4572000"/>
            <a:chExt cx="2209680" cy="533160"/>
          </a:xfrm>
        </p:grpSpPr>
        <p:sp>
          <p:nvSpPr>
            <p:cNvPr id="68" name=""/>
            <p:cNvSpPr/>
            <p:nvPr/>
          </p:nvSpPr>
          <p:spPr>
            <a:xfrm>
              <a:off x="3962520" y="4572000"/>
              <a:ext cx="22096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P (   | M,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647600" y="479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962520" y="5181480"/>
            <a:ext cx="2895480" cy="533160"/>
            <a:chOff x="3962520" y="5181480"/>
            <a:chExt cx="2895480" cy="533160"/>
          </a:xfrm>
        </p:grpSpPr>
        <p:sp>
          <p:nvSpPr>
            <p:cNvPr id="72" name=""/>
            <p:cNvSpPr/>
            <p:nvPr/>
          </p:nvSpPr>
          <p:spPr>
            <a:xfrm>
              <a:off x="4648320" y="54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5181480"/>
              <a:ext cx="2895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P (   | M,  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541008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19200" y="54093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962520" y="5791320"/>
            <a:ext cx="2895480" cy="533160"/>
            <a:chOff x="3962520" y="5791320"/>
            <a:chExt cx="2895480" cy="533160"/>
          </a:xfrm>
        </p:grpSpPr>
        <p:sp>
          <p:nvSpPr>
            <p:cNvPr id="77" name=""/>
            <p:cNvSpPr/>
            <p:nvPr/>
          </p:nvSpPr>
          <p:spPr>
            <a:xfrm>
              <a:off x="4648320" y="601992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24480" y="6019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62520" y="5791320"/>
              <a:ext cx="2895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 marL="308520" indent="-30852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99"/>
                  </a:solidFill>
                  <a:latin typeface="Arial"/>
                </a:rPr>
                <a:t>P (   | M,    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15000" y="60199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6019200" y="6019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60920" y="6548400"/>
            <a:ext cx="251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© Victor Lavrenko, Aug.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3520" y="1465200"/>
            <a:ext cx="8669520" cy="4848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5000" y="2747880"/>
            <a:ext cx="7602840" cy="2138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000" y="2971800"/>
            <a:ext cx="8451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aka</a:t>
            </a:r>
            <a:br>
              <a:rPr sz="5400"/>
            </a:br>
            <a:r>
              <a:rPr b="1" lang="en-GB" sz="5400" spc="-1" strike="noStrike">
                <a:solidFill>
                  <a:srgbClr val="3333cc"/>
                </a:solidFill>
                <a:latin typeface="Arial"/>
              </a:rPr>
              <a:t> ‘Language Modelling’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Dynamic Model Advantag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More training data for mode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 sensitive to random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Reduced dependency upon selecting appropriate keyfr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Spatio-temporal aspects of shot are captur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odelling Textual Conten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Hierarchical Language Mode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NM Smoothed over multiple leve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* P(T|Shot) +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* P(T|‘Scene’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* P(T|Video) +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–Alpha–Beta–Gamma) * P(T|Coll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ditional video level is beneficia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2003 data, 0.148 vs. 0.1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Using Video-OCR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0.06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SR+OC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0.06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initial precision, more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is not statistically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urther improvements possible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process OCR data? Add cap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ULTI: modalities, 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ulti-modal Retrieva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bining visual and text scores (using independence assumption) gives better results than each modality on its ow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+ASR (manual) finds 18 additional relevant shots over ASR only (565 vs. 54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with TRECVID 2003 find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Query by Multiple 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ank-based vs. Score-base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-robin (min{rank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(mean{score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sults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R gives better MAP (0.0124 vs. 0.008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 finds more relevant (239 vs. 2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Query by Multiple Exampl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A manually made selection of examples gave better results than using a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Order effect with R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ynamic: video exampl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tic: image exampl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nce results from the initial prec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eractive Search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eractive System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1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ased on pre-computed similarity matrix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R langu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ic key-frame model (using A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Update probability scores from searcher’s feedback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 Boldareva &amp; Hiemstra, CIV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Select most informative modality automatically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 marginal-entropy to indicate user-system performance, apply to choosing update strategy (text/visual/combined) for next it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86000" y="3429000"/>
            <a:ext cx="1676520" cy="701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Basic question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e likelihood that this document is relevant to this qu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P(rel|I,Q) = P(I,Q|rel)P(rel) / P(I,Q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35040" y="6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in Information Retrieva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6480" y="4552920"/>
            <a:ext cx="5567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(I,Q|rel) = P(Q|I,rel)P(I|r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Marginal Entropy ~ MAP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227" name="margent-v-map" descr=""/>
          <p:cNvPicPr/>
          <p:nvPr/>
        </p:nvPicPr>
        <p:blipFill>
          <a:blip r:embed="rId1"/>
          <a:stretch/>
        </p:blipFill>
        <p:spPr>
          <a:xfrm>
            <a:off x="2874960" y="1698480"/>
            <a:ext cx="3394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eractive Result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Interactive strategy combining multiple modalities is in general beneficial (MAP=0.1900), even when one modality does not perform wel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onitoring marginal entropy not yet successful to decide between modalities for update strategy (but, still promising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Surprise, Surprise…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Under the Hood</a:t>
            </a:r>
            <a:br>
              <a:rPr sz="4400"/>
            </a:b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ork in Progress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ack to the Future – </a:t>
            </a:r>
            <a:r>
              <a:rPr b="1" lang="en-GB" sz="2800" spc="-1" strike="noStrike">
                <a:solidFill>
                  <a:srgbClr val="003399"/>
                </a:solidFill>
                <a:latin typeface="Arial"/>
              </a:rPr>
              <a:t>DB+IR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!!! </a:t>
            </a:r>
            <a:r>
              <a:rPr b="0" lang="en-GB" sz="28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static model processing has been moved from customised Matlab scripts to MonetDB query plans (CWI’s open-source main-memory DB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llel training process on Linux cl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ext steps: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on with MonetDB’s XQuery front-end (Pathfinder) and the Cirquid project’s XML-IR system (TIJA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 most topics, neither the static nor the dynamic visual model captures the user information need sufficiently…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veraged over all topics however, it is better to use both modalities than ASR on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39800" y="2316240"/>
            <a:ext cx="5794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cc99"/>
                </a:solidFill>
                <a:latin typeface="Arial Black"/>
              </a:rPr>
              <a:t>Working hypothesis: </a:t>
            </a:r>
            <a:br>
              <a:rPr sz="4000"/>
            </a:br>
            <a:r>
              <a:rPr b="0" lang="en-US" sz="4000" spc="-1" strike="noStrike">
                <a:solidFill>
                  <a:srgbClr val="00cc99"/>
                </a:solidFill>
                <a:latin typeface="Arial Black"/>
              </a:rPr>
              <a:t>Matching against both modalities gives robust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Visual aspects of an information need are best captured by using multiple examp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Combining results for multiple (good) examples in round-robin fashion, each ranked on both modalities, gives near-best performance for almost all top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Unfinished Research!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Analysis of TRECVID 2004 resul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: Why is the dynamic model be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training data, spatio-temporal aspects in model, varying number of components, less dependent on keyframe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: Why does the audio not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: Why does the entropy-based monitoring of user-system performance not hel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Unfinished Research!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omparison to TRECVID 2003 resul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2004 training procedure to 2003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anchor-person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2003 topic processing (&amp; vice-ve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tatic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covariance mat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ying number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Future Research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etrieval Mod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document gener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operly model multiple moda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handle multiple query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ystem Asp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INEX and TRECVI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-K query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221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a50021"/>
                </a:solidFill>
                <a:latin typeface="Arial"/>
              </a:rPr>
              <a:t>Thanks</a:t>
            </a:r>
            <a:r>
              <a:rPr b="0" lang="en-GB" sz="5400" spc="-1" strike="noStrike">
                <a:solidFill>
                  <a:srgbClr val="a50021"/>
                </a:solidFill>
                <a:latin typeface="Arial"/>
              </a:rPr>
              <a:t> !!!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Retrieva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(Query generation)</a:t>
            </a:r>
            <a:endParaRPr b="0" lang="en-US" sz="2400" spc="-1" strike="noStrike">
              <a:solidFill>
                <a:srgbClr val="a50021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733920" y="5265720"/>
            <a:ext cx="1485720" cy="91116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733920" y="1922400"/>
            <a:ext cx="1485720" cy="91116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733920" y="4176720"/>
            <a:ext cx="1487520" cy="91116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3733920" y="3087720"/>
            <a:ext cx="1485720" cy="91116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886200" y="1447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3200" y="26020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(Q|M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37280" y="2360520"/>
            <a:ext cx="2052360" cy="127008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216400" y="4080960"/>
            <a:ext cx="2136960" cy="16146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237280" y="3931920"/>
            <a:ext cx="2063520" cy="62388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27560" y="3457440"/>
            <a:ext cx="2041560" cy="33336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00680" y="509904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(Q|M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35720" y="388620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(Q|M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3720" y="3244680"/>
            <a:ext cx="914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P(Q|M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2895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7467480" y="3352680"/>
            <a:ext cx="1474920" cy="982800"/>
          </a:xfrm>
          <a:prstGeom prst="rect">
            <a:avLst/>
          </a:prstGeom>
          <a:ln w="0">
            <a:noFill/>
          </a:ln>
        </p:spPr>
      </p:pic>
      <p:pic>
        <p:nvPicPr>
          <p:cNvPr id="106" name="grass-sky" descr=""/>
          <p:cNvPicPr/>
          <p:nvPr/>
        </p:nvPicPr>
        <p:blipFill>
          <a:blip r:embed="rId6"/>
          <a:stretch/>
        </p:blipFill>
        <p:spPr>
          <a:xfrm>
            <a:off x="762120" y="5264280"/>
            <a:ext cx="147456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SkyGrass" descr=""/>
          <p:cNvPicPr/>
          <p:nvPr/>
        </p:nvPicPr>
        <p:blipFill>
          <a:blip r:embed="rId7"/>
          <a:stretch/>
        </p:blipFill>
        <p:spPr>
          <a:xfrm>
            <a:off x="762120" y="4176720"/>
            <a:ext cx="1474560" cy="914400"/>
          </a:xfrm>
          <a:prstGeom prst="rect">
            <a:avLst/>
          </a:prstGeom>
          <a:ln w="0">
            <a:noFill/>
          </a:ln>
        </p:spPr>
      </p:pic>
      <p:pic>
        <p:nvPicPr>
          <p:cNvPr id="108" name="SolitaryTree" descr=""/>
          <p:cNvPicPr/>
          <p:nvPr/>
        </p:nvPicPr>
        <p:blipFill>
          <a:blip r:embed="rId8"/>
          <a:stretch/>
        </p:blipFill>
        <p:spPr>
          <a:xfrm>
            <a:off x="762120" y="3087720"/>
            <a:ext cx="1474560" cy="914400"/>
          </a:xfrm>
          <a:prstGeom prst="rect">
            <a:avLst/>
          </a:prstGeom>
          <a:ln w="0">
            <a:noFill/>
          </a:ln>
        </p:spPr>
      </p:pic>
      <p:pic>
        <p:nvPicPr>
          <p:cNvPr id="109" name="zf12_1_00" descr=""/>
          <p:cNvPicPr/>
          <p:nvPr/>
        </p:nvPicPr>
        <p:blipFill>
          <a:blip r:embed="rId9"/>
          <a:stretch/>
        </p:blipFill>
        <p:spPr>
          <a:xfrm>
            <a:off x="762120" y="1919160"/>
            <a:ext cx="1474560" cy="914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62320" y="2376360"/>
            <a:ext cx="121896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541680"/>
            <a:ext cx="121896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627440"/>
            <a:ext cx="121896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5715000"/>
            <a:ext cx="1218960" cy="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1447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Do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416720" y="3341520"/>
            <a:ext cx="1542960" cy="1059120"/>
            <a:chOff x="7416720" y="3341520"/>
            <a:chExt cx="1542960" cy="1059120"/>
          </a:xfrm>
        </p:grpSpPr>
        <p:sp>
          <p:nvSpPr>
            <p:cNvPr id="116" name=""/>
            <p:cNvSpPr/>
            <p:nvPr/>
          </p:nvSpPr>
          <p:spPr>
            <a:xfrm>
              <a:off x="762084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6952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91784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6652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1520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6352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220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6088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09200" y="3341520"/>
              <a:ext cx="0" cy="1059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16720" y="3534840"/>
              <a:ext cx="1542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16720" y="3685680"/>
              <a:ext cx="1542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16720" y="3837240"/>
              <a:ext cx="1542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16720" y="3988080"/>
              <a:ext cx="1542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16720" y="4139280"/>
              <a:ext cx="15429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Language Modelling’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ot just ‘English’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ut also, the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languag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Hiemstra or Robertson?</a:t>
            </a:r>
            <a:br>
              <a:rPr sz="2400"/>
            </a:b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399"/>
                </a:solidFill>
                <a:latin typeface="Arial"/>
              </a:rPr>
              <a:t>‘</a:t>
            </a:r>
            <a:r>
              <a:rPr b="0" i="1" lang="en-GB" sz="2400" spc="-1" strike="noStrike">
                <a:solidFill>
                  <a:srgbClr val="003399"/>
                </a:solidFill>
                <a:latin typeface="Arial"/>
              </a:rPr>
              <a:t>Parsimonious language models explicitly address the relation between levels of language models that are typically used for smoothing.’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Language Modelling’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Guardian or Times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83160" y="3244680"/>
            <a:ext cx="4094280" cy="19656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ot just ‘English’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ut also, the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languag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Language Modelling’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or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  ?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049720" y="1797120"/>
            <a:ext cx="1474920" cy="116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74000" y="1797120"/>
            <a:ext cx="1474560" cy="1157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6010200" y="4029120"/>
            <a:ext cx="1635120" cy="145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Not just English!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But also, the </a:t>
            </a:r>
            <a:r>
              <a:rPr b="0" i="1" lang="en-GB" sz="2800" spc="-1" strike="noStrike">
                <a:solidFill>
                  <a:srgbClr val="003399"/>
                </a:solidFill>
                <a:latin typeface="Arial"/>
              </a:rPr>
              <a:t>language</a:t>
            </a: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 of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s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x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Application to Video Retrieval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Matching against multiple modalities gives robustnes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MM of shot (‘dynamic’) or key-frame (‘static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NM of associated text (AS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ume scores for both modalities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"/>
              </a:rPr>
              <a:t>Merge multiple examples’ results RR fashion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teractive search much more successful than manual: the role of user is very importan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TRECVID 2004:</a:t>
            </a:r>
            <a:br>
              <a:rPr sz="4400"/>
            </a:br>
            <a:r>
              <a:rPr b="0" lang="en-GB" sz="4400" spc="-1" strike="noStrike">
                <a:solidFill>
                  <a:srgbClr val="a50021"/>
                </a:solidFill>
                <a:latin typeface="Arial"/>
              </a:rPr>
              <a:t>Research Questions Pursued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Modelling video content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best model the visual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to best model the textual cont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Does audio-visual content modelling contribute to better retrieval results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in manual and interacti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"/>
              </a:rPr>
              <a:t>How to translate the topic into a query?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3:52:16Z</dcterms:created>
  <dc:creator>vnt-user</dc:creator>
  <dc:description/>
  <dc:language>en-US</dc:language>
  <cp:lastModifiedBy>Arjen P. de Vries</cp:lastModifiedBy>
  <dcterms:modified xsi:type="dcterms:W3CDTF">2004-11-13T18:14:19Z</dcterms:modified>
  <cp:revision>2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ijn documenten\thijs\Nieuwe map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