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46F-9A1C-46F6-BEBB-7D55795A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B78F-786C-458C-A617-B73E68DE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170-B3FE-4319-8F26-25D77C98D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04C-B30C-4A99-8916-A29E7F16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2733-28E9-485B-AFA3-9F87970D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39D-22DA-4106-AFF3-E8608B63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C57C-3141-4207-91D6-7D705928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E594-6FA6-44E7-92E7-A563E78B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986B-FF64-4B94-9045-84A0699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6F93-B47F-46D4-968F-59A6E0F3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248B-39ED-4726-96F8-4B7DF0D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344F-0819-404A-9714-804BC21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63FE-F015-45E6-BCC9-C9A50306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1714-04B0-4316-B196-C5380C3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7466-D9EA-4345-88CE-E826456E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39A-EEF7-41B3-BE79-DBE4664D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4A25-C3D6-4B06-A6F2-3AF0FC14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702-F00A-4C76-9D7B-5AF01557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CCC-1450-4345-B47A-C826D2ED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5674-456C-4383-ABE4-6511A120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3CC-6BFD-427B-985B-C6B5222F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7B7-3B09-45E2-B549-D51B92A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084-95BF-4619-A865-1256FE8B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56A-8153-45F8-B082-E8F5B9F9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348-529A-40AD-84A6-138397FE006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120-F68A-4557-AE90-AF0E0107D33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ECVID 2004 Search Task by NUS PRI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Tat-Seng Chua, et al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National University of Singapor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10440" y="834120"/>
            <a:ext cx="7704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rresponding Target Shot Clas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or each query clas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3200400"/>
          <a:ext cx="5943600" cy="2932200"/>
        </p:xfrm>
        <a:graphic>
          <a:graphicData uri="http://schemas.openxmlformats.org/drawingml/2006/table">
            <a:tbl>
              <a:tblPr/>
              <a:tblGrid>
                <a:gridCol w="2209680"/>
                <a:gridCol w="373392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Query-clas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Target Shot Categori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PERSO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POR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Sport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IN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Financ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A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Weath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DISAST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447920" y="2438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re-defined Shot Classes: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General, Anchor-Person, Sports, Finance, Wea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Model --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Determine the Fusion of Multi-modality Featu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28600" y="2895480"/>
          <a:ext cx="8763120" cy="375300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  <a:gridCol w="762120"/>
                <a:gridCol w="990360"/>
                <a:gridCol w="838440"/>
                <a:gridCol w="685800"/>
                <a:gridCol w="761760"/>
                <a:gridCol w="762120"/>
                <a:gridCol w="685800"/>
                <a:gridCol w="609480"/>
                <a:gridCol w="60984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ight of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E in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xpanded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rm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ight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f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C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ight of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peak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dentifica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i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ight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f Face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Recogn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z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ight of Visual Concepts (total of 10 visual concepts used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eop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sket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al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ocke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ater-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od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r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tc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ERSON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PORTS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ANC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EATH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SASTER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ow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838080" y="23623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eights obtained from labeled training corpu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troduction and Ov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Quer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Modal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sion and Pseudo Relevance Feedba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56640" y="2433240"/>
            <a:ext cx="8165160" cy="3011040"/>
            <a:chOff x="656640" y="2433240"/>
            <a:chExt cx="8165160" cy="3011040"/>
          </a:xfrm>
        </p:grpSpPr>
        <p:sp>
          <p:nvSpPr>
            <p:cNvPr id="188" name=""/>
            <p:cNvSpPr/>
            <p:nvPr/>
          </p:nvSpPr>
          <p:spPr>
            <a:xfrm>
              <a:off x="2355120" y="3359520"/>
              <a:ext cx="578880" cy="43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66"/>
                  </a:solidFill>
                  <a:latin typeface="Times New Roman"/>
                </a:rPr>
                <a:t>K</a:t>
              </a:r>
              <a:r>
                <a:rPr b="0" i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54720" y="2433240"/>
              <a:ext cx="1079280" cy="44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Query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6640" y="2433240"/>
              <a:ext cx="926280" cy="76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SR of Sample video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68120" y="3552840"/>
              <a:ext cx="611280" cy="43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66"/>
                  </a:solidFill>
                  <a:latin typeface="Times New Roman"/>
                </a:rPr>
                <a:t>K</a:t>
              </a:r>
              <a:r>
                <a:rPr b="0" i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93480" y="4389480"/>
              <a:ext cx="1962360" cy="57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Document retrieval by Google new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42120" y="4164120"/>
              <a:ext cx="642960" cy="45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3366"/>
                  </a:solidFill>
                  <a:latin typeface="Times New Roman"/>
                </a:rPr>
                <a:t>K</a:t>
              </a:r>
              <a:r>
                <a:rPr b="0" i="1" lang="en-US" sz="1600" spc="-1" strike="noStrike" baseline="-25000">
                  <a:solidFill>
                    <a:srgbClr val="003366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36160" y="3552840"/>
              <a:ext cx="1479600" cy="10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Based on class of query to assign weight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01320" y="2522880"/>
              <a:ext cx="93312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ASR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42120" y="2587320"/>
              <a:ext cx="1061640" cy="41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66"/>
                  </a:solidFill>
                  <a:latin typeface="Times New Roman"/>
                </a:rPr>
                <a:t>WordNe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0" idx="2"/>
              <a:endCxn id="191" idx="0"/>
            </p:cNvCxnSpPr>
            <p:nvPr/>
          </p:nvCxnSpPr>
          <p:spPr>
            <a:xfrm>
              <a:off x="1119960" y="3198600"/>
              <a:ext cx="2545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2"/>
              <a:endCxn id="188" idx="0"/>
            </p:cNvCxnSpPr>
            <p:nvPr/>
          </p:nvCxnSpPr>
          <p:spPr>
            <a:xfrm>
              <a:off x="2394720" y="2877120"/>
              <a:ext cx="250200" cy="483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91" idx="2"/>
              <a:endCxn id="192" idx="0"/>
            </p:cNvCxnSpPr>
            <p:nvPr/>
          </p:nvCxnSpPr>
          <p:spPr>
            <a:xfrm>
              <a:off x="1374480" y="3988800"/>
              <a:ext cx="901440" cy="401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88" idx="2"/>
              <a:endCxn id="192" idx="0"/>
            </p:cNvCxnSpPr>
            <p:nvPr/>
          </p:nvCxnSpPr>
          <p:spPr>
            <a:xfrm flipH="1">
              <a:off x="2274480" y="3795480"/>
              <a:ext cx="369720" cy="59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6" idx="2"/>
              <a:endCxn id="188" idx="3"/>
            </p:cNvCxnSpPr>
            <p:nvPr/>
          </p:nvCxnSpPr>
          <p:spPr>
            <a:xfrm rot="5400000">
              <a:off x="3266640" y="2672280"/>
              <a:ext cx="573120" cy="123984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2" idx="3"/>
              <a:endCxn id="193" idx="1"/>
            </p:cNvCxnSpPr>
            <p:nvPr/>
          </p:nvCxnSpPr>
          <p:spPr>
            <a:xfrm flipV="1">
              <a:off x="3255840" y="4389120"/>
              <a:ext cx="38664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3" idx="3"/>
              <a:endCxn id="194" idx="1"/>
            </p:cNvCxnSpPr>
            <p:nvPr/>
          </p:nvCxnSpPr>
          <p:spPr>
            <a:xfrm flipV="1">
              <a:off x="4285080" y="4083480"/>
              <a:ext cx="45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4" name=""/>
            <p:cNvSpPr/>
            <p:nvPr/>
          </p:nvSpPr>
          <p:spPr>
            <a:xfrm>
              <a:off x="7406280" y="2651760"/>
              <a:ext cx="131904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Times New Roman"/>
                </a:rPr>
                <a:t>Speaker level segment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309800" y="3938760"/>
              <a:ext cx="1512000" cy="86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3366"/>
                  </a:solidFill>
                  <a:latin typeface="Times New Roman"/>
                </a:rPr>
                <a:t>Based on tf.idf retrieval with weighted term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206" name=""/>
            <p:cNvCxnSpPr>
              <a:stCxn id="195" idx="3"/>
              <a:endCxn id="204" idx="1"/>
            </p:cNvCxnSpPr>
            <p:nvPr/>
          </p:nvCxnSpPr>
          <p:spPr>
            <a:xfrm>
              <a:off x="6634440" y="2812320"/>
              <a:ext cx="772560" cy="12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2"/>
              <a:endCxn id="205" idx="0"/>
            </p:cNvCxnSpPr>
            <p:nvPr/>
          </p:nvCxnSpPr>
          <p:spPr>
            <a:xfrm>
              <a:off x="8066520" y="3231000"/>
              <a:ext cx="1440" cy="708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stCxn id="194" idx="3"/>
              <a:endCxn id="205" idx="1"/>
            </p:cNvCxnSpPr>
            <p:nvPr/>
          </p:nvCxnSpPr>
          <p:spPr>
            <a:xfrm>
              <a:off x="6215760" y="4084200"/>
              <a:ext cx="1094400" cy="290160"/>
            </a:xfrm>
            <a:prstGeom prst="curvedConnector5">
              <a:avLst>
                <a:gd name="adj1" fmla="val 49983"/>
                <a:gd name="adj2" fmla="val 49937"/>
                <a:gd name="adj3" fmla="val 4998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9" name=""/>
            <p:cNvSpPr/>
            <p:nvPr/>
          </p:nvSpPr>
          <p:spPr>
            <a:xfrm>
              <a:off x="2516040" y="5032800"/>
              <a:ext cx="495468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7720" y="5257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zh-CN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query terms expanded using its Synset (and/or glossary) from WordN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ASR (terms with high MI) from sample video cli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zh-CN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Web expansion (terms with high MI) union </a:t>
            </a: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zh-CN" sz="2000" spc="-1" strike="noStrike" baseline="-25000">
                <a:solidFill>
                  <a:srgbClr val="003366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zh-CN" sz="2000" spc="-1" strike="noStrike" baseline="-25000">
                <a:solidFill>
                  <a:srgbClr val="003366"/>
                </a:solidFill>
                <a:latin typeface="Arial"/>
              </a:rPr>
              <a:t>2</a:t>
            </a:r>
            <a:r>
              <a:rPr b="0" i="1" lang="zh-CN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Modal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 OC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n featured donated by CMU, with error corrections using minimum edit distance during matc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e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sed on 2DHM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MM model using MFCC and Log of Ener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sing our concept-annotation approach for feature extr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sion of Featu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45720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seudo Relevance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eat top 10 returned shots as positive instan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erform PRF using text features only to extract additional keywords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ity- based retrieval of shots using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U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33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-rank sho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382760" y="2373480"/>
                <a:ext cx="4684680" cy="14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n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itie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ll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lities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143000" y="38098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e for those features that have low confidence values, their weights will be re-distributed to other featur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troduction and Ov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Quer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ulti-Modal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Fusion and Pseudo Relevance Feedba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2971800"/>
            <a:ext cx="2552760" cy="2419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657600" y="2895480"/>
            <a:ext cx="2335320" cy="2438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248520" y="2819520"/>
            <a:ext cx="2465280" cy="2514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66680" y="5486400"/>
            <a:ext cx="22100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un1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AP=0.038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xt on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2438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e Submitted 6 run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410080"/>
            <a:ext cx="22096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3366"/>
                </a:solidFill>
                <a:uFillTx/>
                <a:latin typeface="Arial"/>
              </a:rPr>
              <a:t>Run2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(MAP=0.071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Run1 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External Resource (Web + WordNe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00800" y="5486400"/>
            <a:ext cx="27432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un3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AP=0.09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n2 + OCR, Visual concepts, shot Classes and Speaker Detect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valuations -2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448000" cy="24476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124080" y="2514600"/>
            <a:ext cx="2895840" cy="2641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095880" y="2590920"/>
            <a:ext cx="263232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14400" y="5181480"/>
            <a:ext cx="25909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un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AP=0.119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n3 +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ce Recogniz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5181480"/>
            <a:ext cx="24382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un5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AP=0.120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n4 +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re emphasis on OC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181480"/>
            <a:ext cx="243828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66"/>
                </a:solidFill>
                <a:uFillTx/>
                <a:latin typeface="Arial"/>
              </a:rPr>
              <a:t>Run6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(MAP=0.12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n5 +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seudo Relevance Feedbac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all Perform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7696440" cy="2971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057400" y="563868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n6: mean average precision (MAP) of 0.124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 and Ov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r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-Modal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sion and Pseudo Relevance Feedba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tually an automatic system – We focused on using general purpo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query analysi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o analyze queri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ed on the use of query classes to associate different retrieval models for different query class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bserved successive improvements in performance with use of more useful features, and with pseudo relevance feedb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 did a further run (equivalent to Run 5) but use AQUANT (news of 1998) corpus to perform feature extraction, lead to some improvement in performance (MAP 0.120 -&gt; 0.12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ain finding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ext feature effective in finding the initial ranked list, other modality features help in re-ranking the relevant sho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Use of relevant external knowledge is worth exploring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/Future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3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Employ dynamic Baynesian and other GM models for perform fusion of multi-modality features, learning of query models, and relevance feedbac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Explore contextual models for concept annotations and face  recognizer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cknowledg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Participants of this projec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Tat-Seng Chua, Shi-Yong Neo, Ke-Ya Li, Gang Wang, Rui Shi, Ming Zhao and Huaxin X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Arial"/>
              </a:rPr>
              <a:t>The authors would also like to thanks Institute for Infocomm Research (I2R) for the support of the research project “Intelligent Media and Information Processing” (R-252-000-157-593), under which this project is carried o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986400" y="34246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stion-Answe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r emphasis is three-fold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y automated pipeline through the use of 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neric query analysis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use of of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query-specific mode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usion of multi-modality featur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like text, OCR, visual concepts, et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r technique is similar to that employed in text-based definition question-answering approach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view of our Syste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990720" y="2286000"/>
            <a:ext cx="7695720" cy="4451400"/>
            <a:chOff x="990720" y="2286000"/>
            <a:chExt cx="7695720" cy="4451400"/>
          </a:xfrm>
        </p:grpSpPr>
        <p:sp>
          <p:nvSpPr>
            <p:cNvPr id="103" name=""/>
            <p:cNvSpPr/>
            <p:nvPr/>
          </p:nvSpPr>
          <p:spPr>
            <a:xfrm>
              <a:off x="1056240" y="5914080"/>
              <a:ext cx="583560" cy="324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3320" y="2296440"/>
              <a:ext cx="2324520" cy="1585800"/>
            </a:xfrm>
            <a:prstGeom prst="rect">
              <a:avLst/>
            </a:prstGeom>
            <a:solidFill>
              <a:srgbClr val="cc99ff">
                <a:alpha val="4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64680" y="3301200"/>
              <a:ext cx="860760" cy="48024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Expans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41280" y="2586960"/>
              <a:ext cx="860760" cy="47844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Multi-Class Analyze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09040" y="2576520"/>
              <a:ext cx="860760" cy="47700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Constraints Detec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28120" y="2286000"/>
              <a:ext cx="161352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cc0000"/>
                  </a:solidFill>
                  <a:latin typeface="Times New Roman"/>
                </a:rPr>
                <a:t>Text Query Process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9040" y="3301200"/>
              <a:ext cx="860760" cy="47844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Query Formul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03320" y="5261760"/>
              <a:ext cx="4372560" cy="1475640"/>
            </a:xfrm>
            <a:prstGeom prst="rect">
              <a:avLst/>
            </a:prstGeom>
            <a:solidFill>
              <a:srgbClr val="ffff99">
                <a:alpha val="61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47400" y="5557680"/>
              <a:ext cx="893520" cy="47844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peaker Leve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egm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47400" y="6135840"/>
              <a:ext cx="893520" cy="47700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peech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Recogni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6280" y="6135840"/>
              <a:ext cx="860760" cy="47700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peaker Verific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76280" y="5557680"/>
              <a:ext cx="860760" cy="47844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hot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Classific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09040" y="5261760"/>
              <a:ext cx="169416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cc0000"/>
                  </a:solidFill>
                  <a:latin typeface="Times New Roman"/>
                </a:rPr>
                <a:t>Video Content Process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43400" y="61326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8037000" y="4027680"/>
              <a:ext cx="649440" cy="603720"/>
              <a:chOff x="8037000" y="4027680"/>
              <a:chExt cx="649440" cy="603720"/>
            </a:xfrm>
          </p:grpSpPr>
          <p:sp>
            <p:nvSpPr>
              <p:cNvPr id="118" name=""/>
              <p:cNvSpPr/>
              <p:nvPr/>
            </p:nvSpPr>
            <p:spPr>
              <a:xfrm>
                <a:off x="8037000" y="4027680"/>
                <a:ext cx="649440" cy="603720"/>
              </a:xfrm>
              <a:prstGeom prst="flowChartMultidocumen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080200" y="4148280"/>
                <a:ext cx="454680" cy="3621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Output</a:t>
                </a:r>
                <a:endParaRPr b="0" lang="en-US" sz="1000" spc="-1" strike="noStrike">
                  <a:solidFill>
                    <a:srgbClr val="00336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Shots</a:t>
                </a:r>
                <a:endParaRPr b="0" lang="en-US" sz="1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708200" y="30114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2793960"/>
              <a:ext cx="752400" cy="477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Multimedia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05720" y="2286000"/>
              <a:ext cx="2740680" cy="2830320"/>
            </a:xfrm>
            <a:prstGeom prst="rect">
              <a:avLst/>
            </a:prstGeom>
            <a:solidFill>
              <a:srgbClr val="ff99cc">
                <a:alpha val="4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7400" y="2286000"/>
              <a:ext cx="267480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cc0000"/>
                  </a:solidFill>
                  <a:latin typeface="Times New Roman"/>
                </a:rPr>
                <a:t>Video Retrieval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6360" y="308376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65520" y="3083760"/>
              <a:ext cx="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13920" y="279396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13920" y="359172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3320" y="3954600"/>
              <a:ext cx="2674800" cy="1161720"/>
            </a:xfrm>
            <a:prstGeom prst="rect">
              <a:avLst/>
            </a:prstGeom>
            <a:solidFill>
              <a:srgbClr val="cc99ff">
                <a:alpha val="40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82040" y="3301200"/>
              <a:ext cx="456120" cy="11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35080" y="4245120"/>
              <a:ext cx="1304280" cy="29052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peaker Verific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35080" y="4646160"/>
              <a:ext cx="1304280" cy="42948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Face Detection and Recogni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31400" y="4172040"/>
              <a:ext cx="782280" cy="870840"/>
            </a:xfrm>
            <a:prstGeom prst="rect">
              <a:avLst/>
            </a:prstGeom>
            <a:solidFill>
              <a:srgbClr val="ffcc00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Pseudo Relevance Feedback using OCR and AS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39720" y="4898880"/>
              <a:ext cx="3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39720" y="4390560"/>
              <a:ext cx="3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87880" y="5552280"/>
              <a:ext cx="860760" cy="47736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Shot Boundary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87880" y="6132600"/>
              <a:ext cx="860760" cy="47844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Face Detec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31160" y="5552280"/>
              <a:ext cx="859680" cy="47736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Video OCR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31160" y="6132600"/>
              <a:ext cx="859680" cy="47844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Visual Concept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31280" y="5841720"/>
              <a:ext cx="915120" cy="8708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75880" y="6350040"/>
              <a:ext cx="45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95000" y="6129360"/>
              <a:ext cx="78516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Times New Roman"/>
                </a:rPr>
                <a:t>Feature Databas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52680" y="2939400"/>
              <a:ext cx="65268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578480" y="4171680"/>
              <a:ext cx="32688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25680" y="3954600"/>
              <a:ext cx="1613160" cy="3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cc0000"/>
                  </a:solidFill>
                  <a:latin typeface="Times New Roman"/>
                </a:rPr>
                <a:t>Video Query Process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36040" y="2648520"/>
              <a:ext cx="1108080" cy="65232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Text Retrieval based on Speaker level inform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89080" y="4536000"/>
              <a:ext cx="1310760" cy="43560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Re-ranking by Pseudo Relevance Feedback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188840" y="5116320"/>
              <a:ext cx="0" cy="79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46400" y="4390560"/>
              <a:ext cx="3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0680" y="2648520"/>
              <a:ext cx="1109160" cy="65232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Ranking of Shots based on Textual feature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36040" y="3519360"/>
              <a:ext cx="1108080" cy="65232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Ranking of Shots based on Audio Visual feature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40680" y="3519360"/>
              <a:ext cx="1109160" cy="652320"/>
            </a:xfrm>
            <a:prstGeom prst="rect">
              <a:avLst/>
            </a:prstGeom>
            <a:solidFill>
              <a:srgbClr val="339966">
                <a:alpha val="4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Fusion of Results 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44480" y="3011400"/>
              <a:ext cx="19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44480" y="3810240"/>
              <a:ext cx="19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9080" y="330120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93720" y="3301200"/>
              <a:ext cx="0" cy="21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56" name=""/>
            <p:cNvCxnSpPr>
              <a:stCxn id="151" idx="2"/>
              <a:endCxn id="146" idx="0"/>
            </p:cNvCxnSpPr>
            <p:nvPr/>
          </p:nvCxnSpPr>
          <p:spPr>
            <a:xfrm rot="5400000">
              <a:off x="6437880" y="4078440"/>
              <a:ext cx="364680" cy="551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58400" y="905760"/>
            <a:ext cx="756072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ulti-Modality Features Us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t Clas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deo OC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aker Identific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ce Detection and Recogn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sual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troduction and Overvie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ulti-Modality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Fusion and Pseudo Relevance Feedback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Evalu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063080" y="834120"/>
            <a:ext cx="75513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25560" y="2612880"/>
            <a:ext cx="924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14800" y="2457360"/>
            <a:ext cx="2020680" cy="79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NLP Analy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(pos, np, vp, n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4038480"/>
            <a:ext cx="150480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Query-cla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809880"/>
            <a:ext cx="1514520" cy="73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ey Core Query Ter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49680" y="2854440"/>
            <a:ext cx="439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3962520"/>
            <a:ext cx="151596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onstrai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981080" y="3276720"/>
            <a:ext cx="19814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276720"/>
            <a:ext cx="2210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78600" y="2536920"/>
            <a:ext cx="151452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Times New Roman"/>
              </a:rPr>
              <a:t>WordNet,  keywords l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71" idx="1"/>
            <a:endCxn id="163" idx="3"/>
          </p:cNvCxnSpPr>
          <p:nvPr/>
        </p:nvCxnSpPr>
        <p:spPr>
          <a:xfrm rot="10800000">
            <a:off x="5234760" y="2856960"/>
            <a:ext cx="1743840" cy="191160"/>
          </a:xfrm>
          <a:prstGeom prst="curvedConnector5">
            <a:avLst>
              <a:gd name="adj1" fmla="val 49948"/>
              <a:gd name="adj2" fmla="val 50000"/>
              <a:gd name="adj3" fmla="val 49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680" y="4723920"/>
            <a:ext cx="7693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phological analysis to extrac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t-of-Speech (POS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b-phra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un-phra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med ent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ract main core-terms (NN and NP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86760" y="834120"/>
            <a:ext cx="76276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uery analysis – 6 query clas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ERSON: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looking for a person. For example: “Find shots of Boris Yeltsin”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PORTS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looking for sports news scenes. For example: “Find more shots of a tennis player contacting the ball with his or her tennis racket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FINANCE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looking for financial related shots such as stocks, business Merger &amp; Acquisitions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EATHER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looking for weather related shot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ISASTER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looking for disaster related shots. For example: “Find shots of one or more building with flood waters around it/the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NERAL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queries that do not belong to any of the above categories. For example: “Find one or more people and one or more dogs walking togethe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10440" y="834120"/>
            <a:ext cx="7704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amples of Query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14400" y="2438280"/>
          <a:ext cx="8077320" cy="4191120"/>
        </p:xfrm>
        <a:graphic>
          <a:graphicData uri="http://schemas.openxmlformats.org/drawingml/2006/table">
            <a:tbl>
              <a:tblPr/>
              <a:tblGrid>
                <a:gridCol w="609480"/>
                <a:gridCol w="3537000"/>
                <a:gridCol w="1978200"/>
                <a:gridCol w="1038240"/>
                <a:gridCol w="914400"/>
              </a:tblGrid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Query-clas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onstraint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ore term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Clas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d shots of a street scene with multiple pedestrian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 motion and multiple vehicles in motion somewher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 the shot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n motion somewher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treet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GENERA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d shots of one or more buildings with flood waters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round it/them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ith flood waters around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t/the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Buildings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lood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ISASTER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d shots of US Congressman Henry Hyde's face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hole or part, from any angle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hole or part, from any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ngl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enry Hyd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3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d shots of a hockey rink with at least one of th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nets fully visible from some point of view.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one of the nets fully visible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hockey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PORTS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ind shots of Sam Donaldson's face - whole or part,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from any angle, but including both eyes. No other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eople visible with h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hole or part, from any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ngle, but including both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yes. No other people visible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with h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am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onalds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30290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ERSON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03:43:39Z</dcterms:created>
  <dc:creator>NUS</dc:creator>
  <dc:description/>
  <dc:language>en-US</dc:language>
  <cp:lastModifiedBy>Administrator</cp:lastModifiedBy>
  <dcterms:modified xsi:type="dcterms:W3CDTF">2004-11-24T01:51:32Z</dcterms:modified>
  <cp:revision>20</cp:revision>
  <dc:subject/>
  <dc:title>TRECVID 2004 Search Task by NUS PRIS</dc:title>
</cp:coreProperties>
</file>