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0" cy="30481588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2855-49E2-4F6C-97F0-61663FBD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9000" y="2709720"/>
            <a:ext cx="38862000" cy="508032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ctr">
            <a:noAutofit/>
          </a:bodyPr>
          <a:p>
            <a:pPr indent="0" algn="ctr">
              <a:buNone/>
              <a:tabLst>
                <a:tab algn="l" pos="0"/>
                <a:tab algn="l" pos="4156200"/>
                <a:tab algn="l" pos="8312040"/>
              </a:tabLst>
            </a:pP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9000" y="8805960"/>
            <a:ext cx="38862000" cy="872316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9000" y="18358200"/>
            <a:ext cx="38862000" cy="872316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3F8D-646D-4955-81C1-BB0CDF3B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9000" y="2709720"/>
            <a:ext cx="38862000" cy="508032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ctr">
            <a:noAutofit/>
          </a:bodyPr>
          <a:p>
            <a:pPr indent="0" algn="ctr">
              <a:buNone/>
              <a:tabLst>
                <a:tab algn="l" pos="0"/>
                <a:tab algn="l" pos="4156200"/>
                <a:tab algn="l" pos="8312040"/>
              </a:tabLst>
            </a:pP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9000" y="8805960"/>
            <a:ext cx="18964440" cy="872316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42040" y="8805960"/>
            <a:ext cx="18964440" cy="872316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9000" y="18358200"/>
            <a:ext cx="18964440" cy="872316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42040" y="18358200"/>
            <a:ext cx="18964440" cy="872316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7992-84C0-476C-84E9-84EB4955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9000" y="2709720"/>
            <a:ext cx="38862000" cy="508032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ctr">
            <a:noAutofit/>
          </a:bodyPr>
          <a:p>
            <a:pPr indent="0" algn="ctr">
              <a:buNone/>
              <a:tabLst>
                <a:tab algn="l" pos="0"/>
                <a:tab algn="l" pos="4156200"/>
                <a:tab algn="l" pos="8312040"/>
              </a:tabLst>
            </a:pP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9000" y="8805960"/>
            <a:ext cx="12513240" cy="872316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8280" y="8805960"/>
            <a:ext cx="12513240" cy="872316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560" y="8805960"/>
            <a:ext cx="12513240" cy="872316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9000" y="18358200"/>
            <a:ext cx="12513240" cy="872316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8280" y="18358200"/>
            <a:ext cx="12513240" cy="872316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560" y="18358200"/>
            <a:ext cx="12513240" cy="872316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963F-87AC-4B0A-9B92-8F1583A5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9000" y="2709720"/>
            <a:ext cx="38862000" cy="508032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ctr">
            <a:noAutofit/>
          </a:bodyPr>
          <a:p>
            <a:pPr indent="0" algn="ctr">
              <a:buNone/>
              <a:tabLst>
                <a:tab algn="l" pos="0"/>
                <a:tab algn="l" pos="4156200"/>
                <a:tab algn="l" pos="8312040"/>
              </a:tabLst>
            </a:pP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9000" y="8805960"/>
            <a:ext cx="38862000" cy="182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26"/>
              </a:spcBef>
              <a:buNone/>
              <a:tabLst>
                <a:tab algn="l" pos="0"/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85F-3EB4-456D-B0C3-1213638F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9000" y="2709720"/>
            <a:ext cx="38862000" cy="508032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ctr">
            <a:noAutofit/>
          </a:bodyPr>
          <a:p>
            <a:pPr indent="0" algn="ctr">
              <a:buNone/>
              <a:tabLst>
                <a:tab algn="l" pos="0"/>
                <a:tab algn="l" pos="4156200"/>
                <a:tab algn="l" pos="8312040"/>
              </a:tabLst>
            </a:pP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9000" y="8805960"/>
            <a:ext cx="38862000" cy="1828800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B46-6C97-4EDB-931F-BDC42028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9000" y="2709720"/>
            <a:ext cx="38862000" cy="508032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ctr">
            <a:noAutofit/>
          </a:bodyPr>
          <a:p>
            <a:pPr indent="0" algn="ctr">
              <a:buNone/>
              <a:tabLst>
                <a:tab algn="l" pos="0"/>
                <a:tab algn="l" pos="4156200"/>
                <a:tab algn="l" pos="8312040"/>
              </a:tabLst>
            </a:pP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9000" y="8805960"/>
            <a:ext cx="18964440" cy="1828800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42040" y="8805960"/>
            <a:ext cx="18964440" cy="1828800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BF31-7AFF-494E-8A45-709C9BC3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9000" y="2709720"/>
            <a:ext cx="38862000" cy="508032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ctr">
            <a:noAutofit/>
          </a:bodyPr>
          <a:p>
            <a:pPr indent="0" algn="ctr">
              <a:buNone/>
              <a:tabLst>
                <a:tab algn="l" pos="0"/>
                <a:tab algn="l" pos="4156200"/>
                <a:tab algn="l" pos="8312040"/>
              </a:tabLst>
            </a:pP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44C-AD50-4CA5-9968-E579DB25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9000" y="2709720"/>
            <a:ext cx="38862000" cy="2355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26"/>
              </a:spcBef>
              <a:tabLst>
                <a:tab algn="l" pos="0"/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9A1B-D609-4860-AA52-6F8F852A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9000" y="2709720"/>
            <a:ext cx="38862000" cy="508032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ctr">
            <a:noAutofit/>
          </a:bodyPr>
          <a:p>
            <a:pPr indent="0" algn="ctr">
              <a:buNone/>
              <a:tabLst>
                <a:tab algn="l" pos="0"/>
                <a:tab algn="l" pos="4156200"/>
                <a:tab algn="l" pos="8312040"/>
              </a:tabLst>
            </a:pP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9000" y="8805960"/>
            <a:ext cx="18964440" cy="872316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42040" y="8805960"/>
            <a:ext cx="18964440" cy="1828800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9000" y="18358200"/>
            <a:ext cx="18964440" cy="872316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FC93-37F7-4065-A73B-49576A9E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9000" y="2709720"/>
            <a:ext cx="38862000" cy="508032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ctr">
            <a:noAutofit/>
          </a:bodyPr>
          <a:p>
            <a:pPr indent="0" algn="ctr">
              <a:buNone/>
              <a:tabLst>
                <a:tab algn="l" pos="0"/>
                <a:tab algn="l" pos="4156200"/>
                <a:tab algn="l" pos="8312040"/>
              </a:tabLst>
            </a:pP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9000" y="8805960"/>
            <a:ext cx="18964440" cy="1828800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42040" y="8805960"/>
            <a:ext cx="18964440" cy="872316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42040" y="18358200"/>
            <a:ext cx="18964440" cy="872316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B30-E35C-495E-9274-6467513D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9000" y="2709720"/>
            <a:ext cx="38862000" cy="508032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ctr">
            <a:noAutofit/>
          </a:bodyPr>
          <a:p>
            <a:pPr indent="0" algn="ctr">
              <a:buNone/>
              <a:tabLst>
                <a:tab algn="l" pos="0"/>
                <a:tab algn="l" pos="4156200"/>
                <a:tab algn="l" pos="8312040"/>
              </a:tabLst>
            </a:pP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9000" y="8805960"/>
            <a:ext cx="18964440" cy="872316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42040" y="8805960"/>
            <a:ext cx="18964440" cy="872316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9000" y="18358200"/>
            <a:ext cx="38862000" cy="872316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/>
          </a:bodyPr>
          <a:p>
            <a:pPr indent="0">
              <a:spcBef>
                <a:spcPts val="3626"/>
              </a:spcBef>
              <a:buNone/>
              <a:tabLst>
                <a:tab algn="l" pos="4156200"/>
                <a:tab algn="l" pos="8312040"/>
              </a:tabLst>
            </a:pP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9EBA-76CE-4354-AA2F-4F958F2F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9000" y="2709720"/>
            <a:ext cx="38862000" cy="508032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ctr">
            <a:noAutofit/>
          </a:bodyPr>
          <a:p>
            <a:pPr indent="0" algn="ctr">
              <a:buNone/>
              <a:tabLst>
                <a:tab algn="l" pos="0"/>
                <a:tab algn="l" pos="4156200"/>
                <a:tab algn="l" pos="831204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9000" y="8805960"/>
            <a:ext cx="38862000" cy="1828800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rmAutofit fontScale="98000"/>
          </a:bodyPr>
          <a:p>
            <a:pPr marL="1527480" indent="-152748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4156200"/>
                <a:tab algn="l" pos="83120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1" marL="3308760" indent="-127224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4156200"/>
                <a:tab algn="l" pos="83120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2" marL="5091840" indent="-1018800">
              <a:spcBef>
                <a:spcPts val="3626"/>
              </a:spcBef>
              <a:buClr>
                <a:srgbClr val="000000"/>
              </a:buClr>
              <a:buFont typeface="Times New Roman"/>
              <a:buChar char="•"/>
              <a:tabLst>
                <a:tab algn="l" pos="4156200"/>
                <a:tab algn="l" pos="83120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3" marL="7128000" indent="-1018800">
              <a:spcBef>
                <a:spcPts val="3626"/>
              </a:spcBef>
              <a:buClr>
                <a:srgbClr val="000000"/>
              </a:buClr>
              <a:buFont typeface="Times New Roman"/>
              <a:buChar char="–"/>
              <a:tabLst>
                <a:tab algn="l" pos="4156200"/>
                <a:tab algn="l" pos="83120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4" marL="9164880" indent="-101916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4156200"/>
                <a:tab algn="l" pos="83120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5" marL="9164880" indent="-101916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4156200"/>
                <a:tab algn="l" pos="83120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  <a:p>
            <a:pPr lvl="6" marL="9164880" indent="-1019160">
              <a:spcBef>
                <a:spcPts val="3626"/>
              </a:spcBef>
              <a:buClr>
                <a:srgbClr val="000000"/>
              </a:buClr>
              <a:buFont typeface="Times New Roman"/>
              <a:buChar char="»"/>
              <a:tabLst>
                <a:tab algn="l" pos="4156200"/>
                <a:tab algn="l" pos="8312040"/>
              </a:tabLst>
            </a:pPr>
            <a:r>
              <a:rPr b="0" lang="en-US" sz="14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9000" y="27769680"/>
            <a:ext cx="9524880" cy="203220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Autofit/>
          </a:bodyPr>
          <a:lstStyle>
            <a:lvl1pPr indent="0">
              <a:buNone/>
              <a:tabLst>
                <a:tab algn="l" pos="0"/>
                <a:tab algn="l" pos="4156200"/>
                <a:tab algn="l" pos="8312040"/>
              </a:tabLst>
              <a:defRPr b="0" lang="fr-FR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156200"/>
                <a:tab algn="l" pos="8312040"/>
              </a:tabLst>
            </a:pPr>
            <a:r>
              <a:rPr b="0" lang="fr-FR" sz="6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1120" y="27769680"/>
            <a:ext cx="14477760" cy="203220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Autofit/>
          </a:bodyPr>
          <a:lstStyle>
            <a:lvl1pPr indent="0" algn="ctr">
              <a:buNone/>
              <a:tabLst>
                <a:tab algn="l" pos="0"/>
                <a:tab algn="l" pos="4156200"/>
                <a:tab algn="l" pos="8312040"/>
              </a:tabLst>
              <a:defRPr b="0" lang="fr-FR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156200"/>
                <a:tab algn="l" pos="8312040"/>
              </a:tabLst>
            </a:pPr>
            <a:r>
              <a:rPr b="0" lang="fr-FR" sz="6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6120" y="27769680"/>
            <a:ext cx="9524880" cy="2032200"/>
          </a:xfrm>
          <a:prstGeom prst="rect">
            <a:avLst/>
          </a:prstGeom>
          <a:noFill/>
          <a:ln w="0">
            <a:noFill/>
          </a:ln>
        </p:spPr>
        <p:txBody>
          <a:bodyPr lIns="415800" rIns="415800" tIns="207720" bIns="207720" anchor="t">
            <a:noAutofit/>
          </a:bodyPr>
          <a:lstStyle>
            <a:lvl1pPr indent="0" algn="r">
              <a:buNone/>
              <a:tabLst>
                <a:tab algn="l" pos="0"/>
                <a:tab algn="l" pos="4156200"/>
                <a:tab algn="l" pos="8312040"/>
              </a:tabLst>
              <a:defRPr b="0" lang="fr-FR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156200"/>
                <a:tab algn="l" pos="8312040"/>
              </a:tabLst>
            </a:pPr>
            <a:fld id="{DF74F1E1-0B5F-4CCD-A3DA-6DD6283013E3}" type="slidenum">
              <a:rPr b="0" lang="fr-FR" sz="6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hyperlink" Target="mailto:primaux@labri.fr" TargetMode="External"/><Relationship Id="rId8" Type="http://schemas.openxmlformats.org/officeDocument/2006/relationships/hyperlink" Target="mailto:jenny.benois@labri.fr" TargetMode="External"/><Relationship Id="rId9" Type="http://schemas.openxmlformats.org/officeDocument/2006/relationships/hyperlink" Target="mailto:%7Bkraemer@labri.fr" TargetMode="External"/><Relationship Id="rId10" Type="http://schemas.openxmlformats.org/officeDocument/2006/relationships/hyperlink" Target="mailto:domenger@labri.fr" TargetMode="External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image" Target="../media/image7.wmf"/><Relationship Id="rId17" Type="http://schemas.openxmlformats.org/officeDocument/2006/relationships/image" Target="../media/image8.png"/><Relationship Id="rId18" Type="http://schemas.openxmlformats.org/officeDocument/2006/relationships/image" Target="../media/image7.wmf"/><Relationship Id="rId19" Type="http://schemas.openxmlformats.org/officeDocument/2006/relationships/image" Target="../media/image9.jpeg"/><Relationship Id="rId20" Type="http://schemas.openxmlformats.org/officeDocument/2006/relationships/image" Target="../media/image10.jpeg"/><Relationship Id="rId21" Type="http://schemas.openxmlformats.org/officeDocument/2006/relationships/image" Target="../media/image11.jpe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102920" y="18316440"/>
            <a:ext cx="21812040" cy="5421600"/>
          </a:xfrm>
          <a:prstGeom prst="rect">
            <a:avLst/>
          </a:prstGeom>
          <a:solidFill>
            <a:srgbClr val="cccc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414000" tIns="208800" bIns="20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06440" y="24758640"/>
            <a:ext cx="9380520" cy="4818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397080" y="12350880"/>
            <a:ext cx="6943680" cy="356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6445680" y="12336480"/>
            <a:ext cx="6956640" cy="3656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7277640" y="7062840"/>
            <a:ext cx="5975280" cy="4224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5542720" y="7007400"/>
            <a:ext cx="6053400" cy="4279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1797720" y="6572160"/>
            <a:ext cx="4680000" cy="4888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4529160" cy="30480120"/>
          </a:xfrm>
          <a:prstGeom prst="rect">
            <a:avLst/>
          </a:pr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43280" y="5372280"/>
            <a:ext cx="11985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414000" tIns="208800" bIns="20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306400" y="5334120"/>
            <a:ext cx="10684080" cy="6362640"/>
          </a:xfrm>
          <a:prstGeom prst="rect">
            <a:avLst/>
          </a:prstGeom>
          <a:solidFill>
            <a:srgbClr val="fceeb2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414000" tIns="208800" bIns="20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085280" y="24172920"/>
            <a:ext cx="21812400" cy="581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414000" tIns="208800" bIns="20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372800" y="43005240"/>
            <a:ext cx="14903280" cy="2465640"/>
          </a:xfrm>
          <a:prstGeom prst="rect">
            <a:avLst/>
          </a:prstGeom>
          <a:solidFill>
            <a:srgbClr val="cccc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414000" tIns="208800" bIns="20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12182400"/>
            <a:ext cx="41919480" cy="5581800"/>
          </a:xfrm>
          <a:prstGeom prst="rect">
            <a:avLst/>
          </a:prstGeom>
          <a:solidFill>
            <a:srgbClr val="cc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414000" tIns="208800" bIns="20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54080" y="18316440"/>
            <a:ext cx="19634400" cy="11682720"/>
          </a:xfrm>
          <a:prstGeom prst="rect">
            <a:avLst/>
          </a:prstGeom>
          <a:solidFill>
            <a:srgbClr val="cc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414000" tIns="208800" bIns="20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3333600"/>
            <a:ext cx="4195584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5800" rIns="415800" tIns="207720" bIns="207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56200"/>
                <a:tab algn="l" pos="831204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AUTHORS: L. Primaux {</a:t>
            </a:r>
            <a:r>
              <a:rPr b="0" lang="en-US" sz="45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primaux@labri.fr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}; J. Benois-Pineau {</a:t>
            </a:r>
            <a:r>
              <a:rPr b="0" lang="en-US" sz="45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jenny.benois@labri.fr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}; P. Krämer </a:t>
            </a:r>
            <a:r>
              <a:rPr b="0" lang="en-US" sz="45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{kraemer@labri.fr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}; J-P Domenger {</a:t>
            </a:r>
            <a:r>
              <a:rPr b="0" lang="en-US" sz="45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domenger@labri.fr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56200"/>
                <a:tab algn="l" pos="831204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LaBRI CNRS UMR 5800 / University Bordeaux1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ttp://www.labri.fr/Recherche/ImageSon/AIV/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4789160" y="4981680"/>
            <a:ext cx="10288440" cy="7380360"/>
            <a:chOff x="14789160" y="4981680"/>
            <a:chExt cx="10288440" cy="7380360"/>
          </a:xfrm>
        </p:grpSpPr>
        <p:pic>
          <p:nvPicPr>
            <p:cNvPr id="57" name="" descr=""/>
            <p:cNvPicPr/>
            <p:nvPr/>
          </p:nvPicPr>
          <p:blipFill>
            <a:blip r:embed="rId11"/>
            <a:stretch/>
          </p:blipFill>
          <p:spPr>
            <a:xfrm>
              <a:off x="14789160" y="5122800"/>
              <a:ext cx="973260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4789160" y="4981680"/>
              <a:ext cx="10288440" cy="73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5800" rIns="415800" tIns="207720" bIns="207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156200"/>
                  <a:tab algn="l" pos="8312040"/>
                </a:tabLst>
              </a:pPr>
              <a:r>
                <a:rPr b="1" lang="en-US" sz="5500" spc="-1" strike="noStrike">
                  <a:solidFill>
                    <a:srgbClr val="ff0000"/>
                  </a:solidFill>
                  <a:latin typeface="Arial"/>
                </a:rPr>
                <a:t>Context: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6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156200"/>
                  <a:tab algn="l" pos="831204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MPEG Video Files (6h for SBD task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6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156200"/>
                  <a:tab algn="l" pos="831204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Rough Data Extraction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077920">
                <a:lnSpc>
                  <a:spcPct val="100000"/>
                </a:lnSpc>
                <a:spcBef>
                  <a:spcPts val="36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156200"/>
                  <a:tab algn="l" pos="831204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otion compensation vecto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077920">
                <a:lnSpc>
                  <a:spcPct val="100000"/>
                </a:lnSpc>
                <a:spcBef>
                  <a:spcPts val="36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156200"/>
                  <a:tab algn="l" pos="831204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C Coefficients (I-Frames or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Prediction Error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077920">
                <a:lnSpc>
                  <a:spcPct val="100000"/>
                </a:lnSpc>
                <a:spcBef>
                  <a:spcPts val="36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156200"/>
                  <a:tab algn="l" pos="831204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Intracoded/outliers MB Ma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414520" y="11872800"/>
            <a:ext cx="15796800" cy="5474880"/>
            <a:chOff x="2414520" y="11872800"/>
            <a:chExt cx="15796800" cy="5474880"/>
          </a:xfrm>
        </p:grpSpPr>
        <p:pic>
          <p:nvPicPr>
            <p:cNvPr id="60" name="" descr=""/>
            <p:cNvPicPr/>
            <p:nvPr/>
          </p:nvPicPr>
          <p:blipFill>
            <a:blip r:embed="rId12"/>
            <a:stretch/>
          </p:blipFill>
          <p:spPr>
            <a:xfrm>
              <a:off x="2414520" y="11959560"/>
              <a:ext cx="11260080" cy="106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455560" y="11872800"/>
              <a:ext cx="15755760" cy="54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5800" rIns="415800" tIns="207720" bIns="207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156200"/>
                  <a:tab algn="l" pos="8312040"/>
                </a:tabLst>
              </a:pPr>
              <a:r>
                <a:rPr b="1" lang="en-US" sz="5500" spc="-1" strike="noStrike">
                  <a:solidFill>
                    <a:srgbClr val="ff0000"/>
                  </a:solidFill>
                  <a:latin typeface="Arial"/>
                </a:rPr>
                <a:t>Frame Dissimilarity Measures: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156200"/>
                  <a:tab algn="l" pos="83120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156200"/>
                  <a:tab algn="l" pos="831204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P-Fram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156200"/>
                  <a:tab algn="l" pos="831204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156200"/>
                  <a:tab algn="l" pos="831204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MC: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otion Continuity Measur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156200"/>
                  <a:tab algn="l" pos="831204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Q: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Number of Intracoded Macroblock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156200"/>
                  <a:tab algn="l" pos="831204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Q: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erivative of Q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156200"/>
                  <a:tab algn="l" pos="831204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D: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P-Frames Dissimilarity Measur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156200"/>
                  <a:tab algn="l" pos="83120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156200"/>
                  <a:tab algn="l" pos="831204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(#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324160" y="4950000"/>
            <a:ext cx="10698120" cy="7151400"/>
            <a:chOff x="2324160" y="4950000"/>
            <a:chExt cx="10698120" cy="7151400"/>
          </a:xfrm>
        </p:grpSpPr>
        <p:pic>
          <p:nvPicPr>
            <p:cNvPr id="63" name="" descr=""/>
            <p:cNvPicPr/>
            <p:nvPr/>
          </p:nvPicPr>
          <p:blipFill>
            <a:blip r:embed="rId13"/>
            <a:stretch/>
          </p:blipFill>
          <p:spPr>
            <a:xfrm>
              <a:off x="2342160" y="5062680"/>
              <a:ext cx="791100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2324160" y="4950000"/>
              <a:ext cx="10698120" cy="71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5800" rIns="415800" tIns="207720" bIns="20772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156200"/>
                  <a:tab algn="l" pos="8312040"/>
                </a:tabLst>
              </a:pPr>
              <a:r>
                <a:rPr b="1" lang="en-US" sz="5500" spc="-1" strike="noStrike">
                  <a:solidFill>
                    <a:srgbClr val="ff0000"/>
                  </a:solidFill>
                  <a:latin typeface="Arial"/>
                </a:rPr>
                <a:t>Objective: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156200"/>
                  <a:tab algn="l" pos="8312040"/>
                </a:tabLst>
              </a:pP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156200"/>
                  <a:tab algn="l" pos="8312040"/>
                </a:tabLst>
              </a:pPr>
              <a:r>
                <a:rPr b="1" lang="en-US" sz="4000" spc="-1" strike="noStrike" u="sng">
                  <a:solidFill>
                    <a:srgbClr val="000000"/>
                  </a:solidFill>
                  <a:uFillTx/>
                  <a:latin typeface="Arial"/>
                </a:rPr>
                <a:t>Rough Indexing: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077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156200"/>
                  <a:tab algn="l" pos="831204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Real Time Shot Boundary Detec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077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156200"/>
                  <a:tab algn="l" pos="831204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Rough Datas – Rough Solu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077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156200"/>
                  <a:tab algn="l" pos="831204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Fast &amp; Intelligent Brows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077920" algn="just">
                <a:lnSpc>
                  <a:spcPct val="100000"/>
                </a:lnSpc>
                <a:tabLst>
                  <a:tab algn="l" pos="0"/>
                  <a:tab algn="l" pos="4156200"/>
                  <a:tab algn="l" pos="83120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156200"/>
                  <a:tab algn="l" pos="8312040"/>
                </a:tabLst>
              </a:pPr>
              <a:r>
                <a:rPr b="1" lang="en-US" sz="4000" spc="-1" strike="noStrike" u="sng">
                  <a:solidFill>
                    <a:srgbClr val="000000"/>
                  </a:solidFill>
                  <a:uFillTx/>
                  <a:latin typeface="Arial"/>
                </a:rPr>
                <a:t>TRECVi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0779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156200"/>
                  <a:tab algn="l" pos="831204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hot Change Transition Effects Classifica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4156200"/>
                  <a:tab algn="l" pos="83120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971640" y="436680"/>
            <a:ext cx="43362360" cy="3097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5800" rIns="415800" tIns="207720" bIns="20772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4156200"/>
                <a:tab algn="l" pos="8312040"/>
              </a:tabLst>
            </a:pPr>
            <a:r>
              <a:rPr b="1" lang="en-GB" sz="8800" spc="-1" strike="noStrike">
                <a:solidFill>
                  <a:srgbClr val="ffffff"/>
                </a:solidFill>
                <a:latin typeface="Arial"/>
              </a:rPr>
              <a:t>SHOT BOUNDARY DETECTION IN THE FRAMEWORK                                         OF ROUGH INDEXING PARADIGM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4"/>
          <a:stretch/>
        </p:blipFill>
        <p:spPr>
          <a:xfrm>
            <a:off x="2413080" y="17971920"/>
            <a:ext cx="11976120" cy="1241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16040" y="17997480"/>
            <a:ext cx="17453160" cy="48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5800" rIns="415800" tIns="207720" bIns="207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56200"/>
                <a:tab algn="l" pos="831204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Arial"/>
              </a:rPr>
              <a:t>Shot Boundary Detection: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56200"/>
                <a:tab algn="l" pos="83120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56200"/>
                <a:tab algn="l" pos="83120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assume a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ussian Distribu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D, which is online updated as follow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56200"/>
                <a:tab algn="l" pos="83120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56200"/>
                <a:tab algn="l" pos="83120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56200"/>
                <a:tab algn="l" pos="83120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56200"/>
                <a:tab algn="l" pos="83120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56200"/>
                <a:tab algn="l" pos="83120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ction threshold </a:t>
            </a:r>
            <a:r>
              <a:rPr b="0" i="1" lang="el-GR" sz="36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Arial"/>
              </a:rPr>
              <a:t> (Kp set to1.8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22404240" y="24050520"/>
            <a:ext cx="11628720" cy="1051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377240" y="23976000"/>
            <a:ext cx="560412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5800" rIns="415800" tIns="207720" bIns="20772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56200"/>
                <a:tab algn="l" pos="831204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Arial"/>
              </a:rPr>
              <a:t>Results: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156200"/>
                <a:tab algn="l" pos="831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156200"/>
                <a:tab algn="l" pos="83120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156200"/>
                <a:tab algn="l" pos="8312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equilibrated result is a recall of 70.2% and a precision of 63.4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156200"/>
                <a:tab algn="l" pos="8312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precision is 73% for a recall of 65% and the best recall is 74% for a precision of 57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5059160"/>
            <a:ext cx="4572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414000" tIns="-208440" bIns="-208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5073200"/>
            <a:ext cx="4572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414000" tIns="-208440" bIns="-208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5068520"/>
            <a:ext cx="4572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414000" tIns="-208440" bIns="-208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4572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414000" tIns="-208440" bIns="-208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5049440"/>
            <a:ext cx="4572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414000" tIns="-208440" bIns="-208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4572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414000" tIns="-208440" bIns="-208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377840" y="5335560"/>
            <a:ext cx="18548280" cy="6362640"/>
          </a:xfrm>
          <a:prstGeom prst="rect">
            <a:avLst/>
          </a:prstGeom>
          <a:solidFill>
            <a:srgbClr val="fceeb2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14000" rIns="414000" tIns="208800" bIns="20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5860240" y="4983120"/>
            <a:ext cx="17052840" cy="2351160"/>
            <a:chOff x="25860240" y="4983120"/>
            <a:chExt cx="17052840" cy="2351160"/>
          </a:xfrm>
        </p:grpSpPr>
        <p:pic>
          <p:nvPicPr>
            <p:cNvPr id="78" name="" descr=""/>
            <p:cNvPicPr/>
            <p:nvPr/>
          </p:nvPicPr>
          <p:blipFill>
            <a:blip r:embed="rId16"/>
            <a:stretch/>
          </p:blipFill>
          <p:spPr>
            <a:xfrm>
              <a:off x="25860240" y="5124240"/>
              <a:ext cx="1613160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5860240" y="4983120"/>
              <a:ext cx="17052840" cy="23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5800" rIns="415800" tIns="207720" bIns="2077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156200"/>
                  <a:tab algn="l" pos="8312040"/>
                </a:tabLst>
              </a:pPr>
              <a:r>
                <a:rPr b="1" lang="en-US" sz="5500" spc="-1" strike="noStrike">
                  <a:solidFill>
                    <a:srgbClr val="ff0000"/>
                  </a:solidFill>
                  <a:latin typeface="Arial"/>
                </a:rPr>
                <a:t>Robust Camera Motion Estimation:</a:t>
              </a:r>
              <a:endParaRPr b="0" lang="en-US" sz="5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156200"/>
                  <a:tab algn="l" pos="83120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156200"/>
                  <a:tab algn="l" pos="831204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 parameters affine model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   robust estimat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6180720" y="9115560"/>
            <a:ext cx="1035000" cy="0"/>
          </a:xfrm>
          <a:prstGeom prst="line">
            <a:avLst/>
          </a:prstGeom>
          <a:ln w="108000">
            <a:solidFill>
              <a:srgbClr val="00cc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414000" rIns="414000" tIns="-208800" bIns="-20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181760" y="9113760"/>
            <a:ext cx="1035000" cy="0"/>
          </a:xfrm>
          <a:prstGeom prst="line">
            <a:avLst/>
          </a:prstGeom>
          <a:ln w="108000">
            <a:solidFill>
              <a:srgbClr val="00cc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414000" rIns="414000" tIns="-208800" bIns="-20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762400" y="12322080"/>
            <a:ext cx="9279000" cy="39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0" rIns="414000" tIns="208800" bIns="208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-Fra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C I-Frames matching takes into account  Luminance and chromi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MSE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-Frames Dissimilarity Measure Weighted M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4572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414000" tIns="-208440" bIns="-208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4572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414000" tIns="-208440" bIns="-208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648320" y="16205040"/>
                <a:ext cx="4647960" cy="9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Q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6" name="" descr=""/>
          <p:cNvPicPr/>
          <p:nvPr/>
        </p:nvPicPr>
        <p:blipFill>
          <a:blip r:embed="rId17"/>
          <a:stretch/>
        </p:blipFill>
        <p:spPr>
          <a:xfrm>
            <a:off x="10758600" y="13343040"/>
            <a:ext cx="6270480" cy="391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H="1">
            <a:off x="17492400" y="12185640"/>
            <a:ext cx="4680" cy="556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0" rIns="414000" tIns="208800" bIns="20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4572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414000" tIns="-208440" bIns="-208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8327600" y="16065360"/>
                <a:ext cx="1335096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MSE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ν</m:t>
                            </m:r>
                          </m:e>
                        </m:d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ν</m:t>
                        </m:r>
                      </m:sub>
                      <m:sup/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15140160"/>
            <a:ext cx="4572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414000" tIns="-208440" bIns="-208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745160" y="22637880"/>
                <a:ext cx="42685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∗</m:t>
                    </m:r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4572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414000" tIns="-208440" bIns="-208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686480" y="19830960"/>
                <a:ext cx="11922120" cy="211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αρ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,</m:t>
                        </m:r>
                        <m:r>
                          <m:t xml:space="preserve">σ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μ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αρ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4" name="" descr=""/>
          <p:cNvPicPr/>
          <p:nvPr/>
        </p:nvPicPr>
        <p:blipFill>
          <a:blip r:embed="rId18"/>
          <a:stretch/>
        </p:blipFill>
        <p:spPr>
          <a:xfrm>
            <a:off x="22539240" y="18027720"/>
            <a:ext cx="12623760" cy="1050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512240" y="17953200"/>
            <a:ext cx="13441320" cy="49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5800" rIns="415800" tIns="207720" bIns="20772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56200"/>
                <a:tab algn="l" pos="831204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Arial"/>
              </a:rPr>
              <a:t>Transition Effects Classification: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56200"/>
                <a:tab algn="l" pos="83120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156200"/>
                <a:tab algn="l" pos="8312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assification consists in considering as “CUT” all peaks which are immediately followed by their opposite, with the tolerance of one I-Frame in between. Moreover the peak must not be preceded by a high positive value. Otherwise peaks are considered as “GRAD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156200"/>
                <a:tab algn="l" pos="8312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cision based on the derivative of the number of intra-coded macroblocks showed an increased performance of 20% in recall compared to absolute value Q in (#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111960" y="19256400"/>
            <a:ext cx="114030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0" rIns="414000" tIns="208800" bIns="208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89040" y="23512320"/>
            <a:ext cx="188262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0" rIns="414000" tIns="208800" bIns="208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 order to let Gaussian more reactive, and α is set to 0,1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4572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414000" tIns="-208440" bIns="-208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017960" y="23617080"/>
                <a:ext cx="40053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2487600" y="24304680"/>
            <a:ext cx="10304640" cy="42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0" rIns="414000" tIns="208800" bIns="208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dex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retained as shot border if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t still, to recogniz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(i)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a shot change peak, we consider the previous shot change peak value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(j)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apply the following decision ru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4572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414000" tIns="-208440" bIns="-208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30600" y="25082640"/>
                <a:ext cx="26384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0"/>
            <a:ext cx="4572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414000" tIns="-208440" bIns="-208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613400" y="28503720"/>
                <a:ext cx="75913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i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PeakDescentRati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5" name=""/>
          <p:cNvGrpSpPr/>
          <p:nvPr/>
        </p:nvGrpSpPr>
        <p:grpSpPr>
          <a:xfrm>
            <a:off x="35850600" y="18600840"/>
            <a:ext cx="7513560" cy="4844520"/>
            <a:chOff x="35850600" y="18600840"/>
            <a:chExt cx="7513560" cy="4844520"/>
          </a:xfrm>
        </p:grpSpPr>
        <p:sp>
          <p:nvSpPr>
            <p:cNvPr id="106" name=""/>
            <p:cNvSpPr/>
            <p:nvPr/>
          </p:nvSpPr>
          <p:spPr>
            <a:xfrm>
              <a:off x="35850600" y="18600840"/>
              <a:ext cx="7513560" cy="232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200" spc="-1" strike="noStrike">
                  <a:solidFill>
                    <a:srgbClr val="ff0000"/>
                  </a:solidFill>
                  <a:latin typeface="Times New Roman"/>
                </a:rPr>
                <a:t>CUT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200" spc="-1" strike="noStrike">
                  <a:solidFill>
                    <a:srgbClr val="339966"/>
                  </a:solidFill>
                  <a:latin typeface="Times New Roman"/>
                </a:rPr>
                <a:t>GRAD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1" lang="fr-FR" sz="1200" spc="-1" strike="noStrike">
                  <a:solidFill>
                    <a:srgbClr val="ff0000"/>
                  </a:solidFill>
                  <a:latin typeface="Times New Roman"/>
                </a:rPr>
                <a:t>C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320040" y="19957320"/>
              <a:ext cx="2113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37024560" y="19181520"/>
              <a:ext cx="0" cy="77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8433240" y="19569600"/>
              <a:ext cx="108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8433240" y="19375920"/>
              <a:ext cx="93888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372480" y="19375920"/>
              <a:ext cx="23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607200" y="19375920"/>
              <a:ext cx="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607200" y="19957320"/>
              <a:ext cx="14083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850600" y="21120120"/>
              <a:ext cx="7513560" cy="232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Delta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1015880" y="19763280"/>
              <a:ext cx="1440" cy="19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2424920" y="19181520"/>
              <a:ext cx="0" cy="77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320040" y="22476600"/>
              <a:ext cx="2113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7024560" y="21701160"/>
              <a:ext cx="1080" cy="77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8433240" y="22089240"/>
              <a:ext cx="108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8433240" y="22395600"/>
              <a:ext cx="9388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9372480" y="22476600"/>
              <a:ext cx="234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9607200" y="22476600"/>
              <a:ext cx="108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607200" y="22476600"/>
              <a:ext cx="1408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1015880" y="22282920"/>
              <a:ext cx="14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2424920" y="21701160"/>
              <a:ext cx="1080" cy="77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083240" y="22476600"/>
              <a:ext cx="108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2483240" y="22476600"/>
              <a:ext cx="1440" cy="58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015880" y="19763640"/>
              <a:ext cx="1173960" cy="19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189840" y="19957320"/>
              <a:ext cx="70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015880" y="22525200"/>
              <a:ext cx="11739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189840" y="22476600"/>
              <a:ext cx="93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613440" y="18697680"/>
              <a:ext cx="938880" cy="46508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955120" y="18794520"/>
              <a:ext cx="938880" cy="46508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924200" y="18697680"/>
              <a:ext cx="2347920" cy="465084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5" name="" descr=""/>
          <p:cNvPicPr/>
          <p:nvPr/>
        </p:nvPicPr>
        <p:blipFill>
          <a:blip r:embed="rId19"/>
          <a:stretch/>
        </p:blipFill>
        <p:spPr>
          <a:xfrm>
            <a:off x="27589320" y="25717680"/>
            <a:ext cx="5962320" cy="4213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0"/>
          <a:stretch/>
        </p:blipFill>
        <p:spPr>
          <a:xfrm>
            <a:off x="32737320" y="25752600"/>
            <a:ext cx="5962680" cy="4213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1"/>
          <a:stretch/>
        </p:blipFill>
        <p:spPr>
          <a:xfrm>
            <a:off x="37838160" y="25760520"/>
            <a:ext cx="5962680" cy="4213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3858360" y="24260040"/>
            <a:ext cx="10051920" cy="12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0" rIns="414000" tIns="208800" bIns="208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-sec decod-sec segm-sec  processor-type-and-spe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6732       3874         2858            Pentium 4 2.8G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509320" y="24498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0" rIns="414000" tIns="208800" bIns="20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268280" y="24504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0" rIns="414000" tIns="208800" bIns="20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963520" y="24504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4000" rIns="414000" tIns="208800" bIns="20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8T12:31:45Z</dcterms:created>
  <dc:creator>Thym</dc:creator>
  <dc:description/>
  <dc:language>en-US</dc:language>
  <cp:lastModifiedBy>Primaux</cp:lastModifiedBy>
  <cp:lastPrinted>2000-11-22T16:05:15Z</cp:lastPrinted>
  <dcterms:modified xsi:type="dcterms:W3CDTF">2004-11-10T13:17:15Z</dcterms:modified>
  <cp:revision>64</cp:revision>
  <dc:subject/>
  <dc:title>Aucun titre de diapositive</dc:title>
</cp:coreProperties>
</file>